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527-FCC2-4230-86D7-6227A574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404-1C2F-4490-8976-BE1E8E8C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25B-0E08-4065-ACFD-776DB801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A4A-8EDF-43CF-9F6F-EC87D1BA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103A-E633-481C-B288-E327EFC5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9954-E239-4E90-9B0A-41C2D8CA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5DF9-F4F9-4668-851E-3C928713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1DA5-235E-4FB4-8F8E-9DDE6999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4A44-65F8-48CA-8699-BD94FA7C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27CA-4D0A-4DC6-A5E5-C7AB1627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B232-99F4-4C6A-B726-A6C14085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210-5348-47A8-8C8B-525F3071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92B3-B95D-4346-B092-EF3893CD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AE6B-1A3E-40ED-8741-34FF5909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4C02-5ABB-4227-8228-42926748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8462-B49E-41EC-AABF-634CDCB0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29AC-D292-43ED-973C-71DF048E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052-2081-4DF6-9EA2-8CD8EDD3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6F9-788E-4240-BE6C-15225E1A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9FB-7449-43D0-ABC7-2EBE1B07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0D3-75AF-4F56-A94C-BF69BC1E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CA9-8C58-4958-B144-087DF2FE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C94-8630-40E4-9DBD-C17D1175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1D2-CD5D-43EF-967C-6FC86DB5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E8CC-BBFF-4569-97BB-A0C23ED611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BD47-B8B5-4D20-B8F3-24420FBA14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udents will write fractions as decimals, and percents, and vice ver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raction and dec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7/1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A.  0.03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7/10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B.  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4/10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.  0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16/10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D.  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15/10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E.  0.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3/10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F.  0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8/10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G.  0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8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3/1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H.  0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23000" y="2813040"/>
            <a:ext cx="123840" cy="27000"/>
          </a:xfrm>
          <a:custGeom>
            <a:avLst/>
            <a:gdLst/>
            <a:ahLst/>
            <a:rect l="l" t="t" r="r" b="b"/>
            <a:pathLst>
              <a:path w="348" h="76">
                <a:moveTo>
                  <a:pt x="16297" y="7813"/>
                </a:moveTo>
                <a:cubicBezTo>
                  <a:pt x="16371" y="7813"/>
                  <a:pt x="16446" y="7813"/>
                  <a:pt x="16520" y="7813"/>
                </a:cubicBezTo>
                <a:cubicBezTo>
                  <a:pt x="16481" y="7821"/>
                  <a:pt x="16035" y="7927"/>
                  <a:pt x="16247" y="7863"/>
                </a:cubicBezTo>
                <a:cubicBezTo>
                  <a:pt x="16349" y="7837"/>
                  <a:pt x="16379" y="7830"/>
                  <a:pt x="16247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00160" y="2017800"/>
            <a:ext cx="152640" cy="295200"/>
          </a:xfrm>
          <a:custGeom>
            <a:avLst/>
            <a:gdLst/>
            <a:ahLst/>
            <a:rect l="l" t="t" r="r" b="b"/>
            <a:pathLst>
              <a:path w="423" h="819">
                <a:moveTo>
                  <a:pt x="5606" y="6003"/>
                </a:moveTo>
                <a:cubicBezTo>
                  <a:pt x="5606" y="6147"/>
                  <a:pt x="5600" y="6282"/>
                  <a:pt x="5581" y="6424"/>
                </a:cubicBezTo>
                <a:cubicBezTo>
                  <a:pt x="5563" y="6114"/>
                  <a:pt x="5570" y="5919"/>
                  <a:pt x="5730" y="5655"/>
                </a:cubicBezTo>
                <a:cubicBezTo>
                  <a:pt x="5877" y="5619"/>
                  <a:pt x="5855" y="5819"/>
                  <a:pt x="5779" y="5953"/>
                </a:cubicBezTo>
                <a:cubicBezTo>
                  <a:pt x="5735" y="6031"/>
                  <a:pt x="5828" y="5993"/>
                  <a:pt x="5953" y="6052"/>
                </a:cubicBezTo>
                <a:cubicBezTo>
                  <a:pt x="5966" y="6307"/>
                  <a:pt x="5894" y="6359"/>
                  <a:pt x="5631" y="6400"/>
                </a:cubicBezTo>
                <a:cubicBezTo>
                  <a:pt x="5606" y="6400"/>
                  <a:pt x="5581" y="6400"/>
                  <a:pt x="5556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6160" y="5259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906" y="14610"/>
                </a:moveTo>
                <a:lnTo>
                  <a:pt x="11906" y="1461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3840" y="4116240"/>
            <a:ext cx="169920" cy="44640"/>
          </a:xfrm>
          <a:custGeom>
            <a:avLst/>
            <a:gdLst/>
            <a:ahLst/>
            <a:rect l="l" t="t" r="r" b="b"/>
            <a:pathLst>
              <a:path w="473" h="125">
                <a:moveTo>
                  <a:pt x="16718" y="11485"/>
                </a:moveTo>
                <a:cubicBezTo>
                  <a:pt x="16835" y="11501"/>
                  <a:pt x="16943" y="11485"/>
                  <a:pt x="17066" y="11485"/>
                </a:cubicBezTo>
                <a:cubicBezTo>
                  <a:pt x="16911" y="11533"/>
                  <a:pt x="16449" y="11631"/>
                  <a:pt x="16594" y="11559"/>
                </a:cubicBezTo>
                <a:cubicBezTo>
                  <a:pt x="16658" y="11527"/>
                  <a:pt x="17036" y="11459"/>
                  <a:pt x="16917" y="11485"/>
                </a:cubicBezTo>
                <a:cubicBezTo>
                  <a:pt x="16867" y="11493"/>
                  <a:pt x="16818" y="11501"/>
                  <a:pt x="16768" y="11509"/>
                </a:cubicBezTo>
                <a:cubicBezTo>
                  <a:pt x="16652" y="11555"/>
                  <a:pt x="16990" y="11557"/>
                  <a:pt x="17016" y="11435"/>
                </a:cubicBezTo>
                <a:cubicBezTo>
                  <a:pt x="17037" y="11335"/>
                  <a:pt x="16914" y="11448"/>
                  <a:pt x="17016" y="11435"/>
                </a:cubicBezTo>
                <a:cubicBezTo>
                  <a:pt x="17191" y="11413"/>
                  <a:pt x="16740" y="11435"/>
                  <a:pt x="16991" y="114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670200"/>
            <a:ext cx="125640" cy="3672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16297" y="10220"/>
                </a:moveTo>
                <a:cubicBezTo>
                  <a:pt x="16397" y="10220"/>
                  <a:pt x="16494" y="10180"/>
                  <a:pt x="16594" y="10195"/>
                </a:cubicBezTo>
                <a:cubicBezTo>
                  <a:pt x="16704" y="10212"/>
                  <a:pt x="16480" y="10250"/>
                  <a:pt x="16371" y="10269"/>
                </a:cubicBezTo>
                <a:cubicBezTo>
                  <a:pt x="16264" y="10376"/>
                  <a:pt x="16604" y="10256"/>
                  <a:pt x="16594" y="10269"/>
                </a:cubicBezTo>
                <a:cubicBezTo>
                  <a:pt x="16569" y="10277"/>
                  <a:pt x="16545" y="10286"/>
                  <a:pt x="16520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28880" y="2463840"/>
            <a:ext cx="411120" cy="1206360"/>
          </a:xfrm>
          <a:custGeom>
            <a:avLst/>
            <a:gdLst/>
            <a:ahLst/>
            <a:rect l="l" t="t" r="r" b="b"/>
            <a:pathLst>
              <a:path w="1142" h="3350">
                <a:moveTo>
                  <a:pt x="5407" y="7069"/>
                </a:moveTo>
                <a:cubicBezTo>
                  <a:pt x="5454" y="7203"/>
                  <a:pt x="5489" y="7325"/>
                  <a:pt x="5507" y="7466"/>
                </a:cubicBezTo>
                <a:cubicBezTo>
                  <a:pt x="5666" y="7450"/>
                  <a:pt x="5780" y="7410"/>
                  <a:pt x="5928" y="7342"/>
                </a:cubicBezTo>
              </a:path>
              <a:path w="1142" h="3350">
                <a:moveTo>
                  <a:pt x="5556" y="7392"/>
                </a:moveTo>
                <a:cubicBezTo>
                  <a:pt x="5632" y="7335"/>
                  <a:pt x="5703" y="7276"/>
                  <a:pt x="5779" y="7218"/>
                </a:cubicBezTo>
              </a:path>
              <a:path w="1142" h="3350">
                <a:moveTo>
                  <a:pt x="5457" y="7169"/>
                </a:moveTo>
                <a:cubicBezTo>
                  <a:pt x="5401" y="7135"/>
                  <a:pt x="5402" y="7148"/>
                  <a:pt x="5358" y="7094"/>
                </a:cubicBezTo>
                <a:cubicBezTo>
                  <a:pt x="5520" y="7023"/>
                  <a:pt x="5677" y="6938"/>
                  <a:pt x="5829" y="6846"/>
                </a:cubicBezTo>
              </a:path>
              <a:path w="1142" h="3350">
                <a:moveTo>
                  <a:pt x="5680" y="8285"/>
                </a:moveTo>
                <a:cubicBezTo>
                  <a:pt x="5698" y="8466"/>
                  <a:pt x="5730" y="8656"/>
                  <a:pt x="5779" y="8830"/>
                </a:cubicBezTo>
                <a:cubicBezTo>
                  <a:pt x="5674" y="8619"/>
                  <a:pt x="5620" y="8432"/>
                  <a:pt x="5556" y="8210"/>
                </a:cubicBezTo>
                <a:cubicBezTo>
                  <a:pt x="5523" y="8096"/>
                  <a:pt x="5850" y="8005"/>
                  <a:pt x="5953" y="7962"/>
                </a:cubicBezTo>
                <a:cubicBezTo>
                  <a:pt x="5994" y="7946"/>
                  <a:pt x="6036" y="7929"/>
                  <a:pt x="6077" y="7913"/>
                </a:cubicBezTo>
              </a:path>
              <a:path w="1142" h="3350">
                <a:moveTo>
                  <a:pt x="5705" y="8558"/>
                </a:moveTo>
                <a:cubicBezTo>
                  <a:pt x="5807" y="8490"/>
                  <a:pt x="5884" y="8438"/>
                  <a:pt x="6003" y="8409"/>
                </a:cubicBezTo>
              </a:path>
              <a:path w="1142" h="3350">
                <a:moveTo>
                  <a:pt x="5953" y="9451"/>
                </a:moveTo>
                <a:cubicBezTo>
                  <a:pt x="6026" y="9469"/>
                  <a:pt x="6079" y="9844"/>
                  <a:pt x="6102" y="9971"/>
                </a:cubicBezTo>
                <a:cubicBezTo>
                  <a:pt x="6121" y="10103"/>
                  <a:pt x="6129" y="10120"/>
                  <a:pt x="6127" y="10195"/>
                </a:cubicBezTo>
              </a:path>
              <a:path w="1142" h="3350">
                <a:moveTo>
                  <a:pt x="6300" y="9302"/>
                </a:moveTo>
                <a:cubicBezTo>
                  <a:pt x="6390" y="9489"/>
                  <a:pt x="6463" y="9688"/>
                  <a:pt x="6499" y="9897"/>
                </a:cubicBezTo>
                <a:cubicBezTo>
                  <a:pt x="6499" y="9914"/>
                  <a:pt x="6499" y="9930"/>
                  <a:pt x="6499" y="9947"/>
                </a:cubicBezTo>
              </a:path>
              <a:path w="1142" h="3350">
                <a:moveTo>
                  <a:pt x="6052" y="9897"/>
                </a:moveTo>
                <a:cubicBezTo>
                  <a:pt x="6135" y="9806"/>
                  <a:pt x="6229" y="9774"/>
                  <a:pt x="6325" y="9699"/>
                </a:cubicBezTo>
                <a:cubicBezTo>
                  <a:pt x="6342" y="9682"/>
                  <a:pt x="6358" y="9666"/>
                  <a:pt x="6375" y="96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55880" y="3732120"/>
            <a:ext cx="419040" cy="1652760"/>
          </a:xfrm>
          <a:custGeom>
            <a:avLst/>
            <a:gdLst/>
            <a:ahLst/>
            <a:rect l="l" t="t" r="r" b="b"/>
            <a:pathLst>
              <a:path w="1167" h="4590">
                <a:moveTo>
                  <a:pt x="6449" y="10368"/>
                </a:moveTo>
                <a:cubicBezTo>
                  <a:pt x="6294" y="10380"/>
                  <a:pt x="6186" y="10422"/>
                  <a:pt x="6077" y="10542"/>
                </a:cubicBezTo>
                <a:cubicBezTo>
                  <a:pt x="5923" y="10712"/>
                  <a:pt x="5962" y="10925"/>
                  <a:pt x="6052" y="11112"/>
                </a:cubicBezTo>
                <a:cubicBezTo>
                  <a:pt x="6180" y="11378"/>
                  <a:pt x="6376" y="11175"/>
                  <a:pt x="6499" y="11013"/>
                </a:cubicBezTo>
                <a:cubicBezTo>
                  <a:pt x="6580" y="10907"/>
                  <a:pt x="6619" y="10811"/>
                  <a:pt x="6573" y="10691"/>
                </a:cubicBezTo>
                <a:cubicBezTo>
                  <a:pt x="6483" y="10678"/>
                  <a:pt x="6463" y="10666"/>
                  <a:pt x="6375" y="10740"/>
                </a:cubicBezTo>
                <a:cubicBezTo>
                  <a:pt x="6313" y="10792"/>
                  <a:pt x="6258" y="10857"/>
                  <a:pt x="6201" y="10914"/>
                </a:cubicBezTo>
              </a:path>
              <a:path w="1167" h="4590">
                <a:moveTo>
                  <a:pt x="5829" y="12353"/>
                </a:moveTo>
                <a:cubicBezTo>
                  <a:pt x="5888" y="12138"/>
                  <a:pt x="5927" y="11923"/>
                  <a:pt x="5978" y="11708"/>
                </a:cubicBezTo>
                <a:cubicBezTo>
                  <a:pt x="6131" y="11784"/>
                  <a:pt x="6232" y="11983"/>
                  <a:pt x="6300" y="12154"/>
                </a:cubicBezTo>
                <a:cubicBezTo>
                  <a:pt x="6321" y="12238"/>
                  <a:pt x="6322" y="12258"/>
                  <a:pt x="6350" y="12303"/>
                </a:cubicBezTo>
              </a:path>
              <a:path w="1167" h="4590">
                <a:moveTo>
                  <a:pt x="5978" y="12204"/>
                </a:moveTo>
                <a:cubicBezTo>
                  <a:pt x="6076" y="12154"/>
                  <a:pt x="6142" y="12162"/>
                  <a:pt x="6251" y="12154"/>
                </a:cubicBezTo>
              </a:path>
              <a:path w="1167" h="4590">
                <a:moveTo>
                  <a:pt x="6102" y="12973"/>
                </a:moveTo>
                <a:cubicBezTo>
                  <a:pt x="6128" y="12921"/>
                  <a:pt x="5960" y="12862"/>
                  <a:pt x="5879" y="12849"/>
                </a:cubicBezTo>
                <a:cubicBezTo>
                  <a:pt x="5787" y="12834"/>
                  <a:pt x="5652" y="12927"/>
                  <a:pt x="5631" y="13022"/>
                </a:cubicBezTo>
                <a:cubicBezTo>
                  <a:pt x="5595" y="13186"/>
                  <a:pt x="5720" y="13497"/>
                  <a:pt x="5854" y="13593"/>
                </a:cubicBezTo>
                <a:cubicBezTo>
                  <a:pt x="6026" y="13716"/>
                  <a:pt x="6131" y="13590"/>
                  <a:pt x="6226" y="13469"/>
                </a:cubicBezTo>
                <a:cubicBezTo>
                  <a:pt x="6234" y="13461"/>
                  <a:pt x="6243" y="13452"/>
                  <a:pt x="6251" y="13444"/>
                </a:cubicBezTo>
              </a:path>
              <a:path w="1167" h="4590">
                <a:moveTo>
                  <a:pt x="5631" y="14163"/>
                </a:moveTo>
                <a:cubicBezTo>
                  <a:pt x="5697" y="14396"/>
                  <a:pt x="5776" y="14622"/>
                  <a:pt x="5829" y="14858"/>
                </a:cubicBezTo>
              </a:path>
              <a:path w="1167" h="4590">
                <a:moveTo>
                  <a:pt x="5432" y="14139"/>
                </a:moveTo>
                <a:cubicBezTo>
                  <a:pt x="5684" y="14005"/>
                  <a:pt x="5926" y="13986"/>
                  <a:pt x="6152" y="14213"/>
                </a:cubicBezTo>
                <a:cubicBezTo>
                  <a:pt x="6378" y="14439"/>
                  <a:pt x="6280" y="14747"/>
                  <a:pt x="6028" y="14883"/>
                </a:cubicBezTo>
                <a:cubicBezTo>
                  <a:pt x="5887" y="14923"/>
                  <a:pt x="5861" y="14928"/>
                  <a:pt x="5779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1840" y="5392800"/>
            <a:ext cx="88920" cy="3636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16892" y="15081"/>
                </a:moveTo>
                <a:cubicBezTo>
                  <a:pt x="16892" y="14954"/>
                  <a:pt x="16973" y="14986"/>
                  <a:pt x="17090" y="14982"/>
                </a:cubicBezTo>
                <a:cubicBezTo>
                  <a:pt x="17107" y="14982"/>
                  <a:pt x="17123" y="14982"/>
                  <a:pt x="17140" y="14982"/>
                </a:cubicBezTo>
                <a:cubicBezTo>
                  <a:pt x="17092" y="14992"/>
                  <a:pt x="16856" y="14962"/>
                  <a:pt x="16966" y="14982"/>
                </a:cubicBezTo>
                <a:cubicBezTo>
                  <a:pt x="17381" y="15057"/>
                  <a:pt x="16634" y="14996"/>
                  <a:pt x="16991" y="15056"/>
                </a:cubicBezTo>
                <a:cubicBezTo>
                  <a:pt x="17227" y="15096"/>
                  <a:pt x="16845" y="15064"/>
                  <a:pt x="16966" y="15081"/>
                </a:cubicBezTo>
                <a:cubicBezTo>
                  <a:pt x="17035" y="15081"/>
                  <a:pt x="17065" y="15084"/>
                  <a:pt x="16991" y="15056"/>
                </a:cubicBezTo>
                <a:cubicBezTo>
                  <a:pt x="16838" y="15056"/>
                  <a:pt x="17223" y="14991"/>
                  <a:pt x="17016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1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209320" y="31240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2.4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Equivalent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udents will write fractions as decimal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pplic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A: Survey the class to find out what fraction of the class likes the color orange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B: This fraction is equivalent to what decimal?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k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.73 of the class liked orange, what fraction would that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813880" y="1866960"/>
            <a:ext cx="312480" cy="588960"/>
          </a:xfrm>
          <a:custGeom>
            <a:avLst/>
            <a:gdLst/>
            <a:ahLst/>
            <a:rect l="l" t="t" r="r" b="b"/>
            <a:pathLst>
              <a:path w="869" h="1638">
                <a:moveTo>
                  <a:pt x="24929" y="5457"/>
                </a:moveTo>
                <a:cubicBezTo>
                  <a:pt x="24937" y="5615"/>
                  <a:pt x="24954" y="5769"/>
                  <a:pt x="24954" y="5928"/>
                </a:cubicBezTo>
              </a:path>
              <a:path w="869" h="1638">
                <a:moveTo>
                  <a:pt x="24681" y="6152"/>
                </a:moveTo>
                <a:cubicBezTo>
                  <a:pt x="24825" y="6112"/>
                  <a:pt x="24989" y="6094"/>
                  <a:pt x="25127" y="6052"/>
                </a:cubicBezTo>
                <a:cubicBezTo>
                  <a:pt x="25156" y="6024"/>
                  <a:pt x="25169" y="6016"/>
                  <a:pt x="25202" y="6028"/>
                </a:cubicBezTo>
              </a:path>
              <a:path w="869" h="1638">
                <a:moveTo>
                  <a:pt x="24854" y="6300"/>
                </a:moveTo>
                <a:cubicBezTo>
                  <a:pt x="24902" y="6253"/>
                  <a:pt x="24918" y="6241"/>
                  <a:pt x="24978" y="6226"/>
                </a:cubicBezTo>
                <a:cubicBezTo>
                  <a:pt x="25027" y="6287"/>
                  <a:pt x="25039" y="6309"/>
                  <a:pt x="25003" y="6375"/>
                </a:cubicBezTo>
                <a:cubicBezTo>
                  <a:pt x="24961" y="6453"/>
                  <a:pt x="24898" y="6451"/>
                  <a:pt x="24829" y="6499"/>
                </a:cubicBezTo>
                <a:cubicBezTo>
                  <a:pt x="24789" y="6540"/>
                  <a:pt x="24776" y="6570"/>
                  <a:pt x="24780" y="6623"/>
                </a:cubicBezTo>
                <a:cubicBezTo>
                  <a:pt x="24876" y="6526"/>
                  <a:pt x="24863" y="6579"/>
                  <a:pt x="24978" y="6598"/>
                </a:cubicBezTo>
                <a:cubicBezTo>
                  <a:pt x="25046" y="6598"/>
                  <a:pt x="25065" y="6601"/>
                  <a:pt x="25102" y="6573"/>
                </a:cubicBezTo>
              </a:path>
              <a:path w="869" h="1638">
                <a:moveTo>
                  <a:pt x="24581" y="6648"/>
                </a:moveTo>
                <a:cubicBezTo>
                  <a:pt x="24632" y="6706"/>
                  <a:pt x="24674" y="6799"/>
                  <a:pt x="24755" y="6821"/>
                </a:cubicBezTo>
                <a:cubicBezTo>
                  <a:pt x="24815" y="6838"/>
                  <a:pt x="24922" y="6809"/>
                  <a:pt x="24978" y="6796"/>
                </a:cubicBezTo>
                <a:cubicBezTo>
                  <a:pt x="25033" y="6784"/>
                  <a:pt x="25106" y="6758"/>
                  <a:pt x="25152" y="6722"/>
                </a:cubicBezTo>
                <a:cubicBezTo>
                  <a:pt x="25215" y="6673"/>
                  <a:pt x="25241" y="6617"/>
                  <a:pt x="25276" y="6548"/>
                </a:cubicBezTo>
                <a:cubicBezTo>
                  <a:pt x="25302" y="6497"/>
                  <a:pt x="25320" y="6430"/>
                  <a:pt x="25326" y="6375"/>
                </a:cubicBezTo>
                <a:cubicBezTo>
                  <a:pt x="25334" y="6304"/>
                  <a:pt x="25347" y="6247"/>
                  <a:pt x="25350" y="6176"/>
                </a:cubicBezTo>
                <a:cubicBezTo>
                  <a:pt x="25354" y="6086"/>
                  <a:pt x="25340" y="6012"/>
                  <a:pt x="25326" y="5928"/>
                </a:cubicBezTo>
                <a:cubicBezTo>
                  <a:pt x="25307" y="5810"/>
                  <a:pt x="25336" y="5691"/>
                  <a:pt x="25350" y="5581"/>
                </a:cubicBezTo>
                <a:cubicBezTo>
                  <a:pt x="25357" y="5529"/>
                  <a:pt x="25333" y="5427"/>
                  <a:pt x="25301" y="5383"/>
                </a:cubicBezTo>
                <a:cubicBezTo>
                  <a:pt x="25254" y="5318"/>
                  <a:pt x="25171" y="5272"/>
                  <a:pt x="25102" y="5234"/>
                </a:cubicBezTo>
                <a:cubicBezTo>
                  <a:pt x="25028" y="5193"/>
                  <a:pt x="24988" y="5188"/>
                  <a:pt x="24904" y="5184"/>
                </a:cubicBezTo>
                <a:cubicBezTo>
                  <a:pt x="24818" y="5180"/>
                  <a:pt x="24775" y="5224"/>
                  <a:pt x="24705" y="5259"/>
                </a:cubicBezTo>
                <a:cubicBezTo>
                  <a:pt x="24624" y="5299"/>
                  <a:pt x="24600" y="5361"/>
                  <a:pt x="24557" y="5432"/>
                </a:cubicBezTo>
                <a:cubicBezTo>
                  <a:pt x="24502" y="5524"/>
                  <a:pt x="24497" y="5623"/>
                  <a:pt x="24482" y="5730"/>
                </a:cubicBezTo>
                <a:cubicBezTo>
                  <a:pt x="24462" y="5876"/>
                  <a:pt x="24488" y="6046"/>
                  <a:pt x="24507" y="6176"/>
                </a:cubicBezTo>
                <a:cubicBezTo>
                  <a:pt x="24520" y="6267"/>
                  <a:pt x="24518" y="6362"/>
                  <a:pt x="24532" y="6449"/>
                </a:cubicBezTo>
                <a:cubicBezTo>
                  <a:pt x="24542" y="6515"/>
                  <a:pt x="24553" y="6583"/>
                  <a:pt x="24557" y="6648"/>
                </a:cubicBezTo>
                <a:cubicBezTo>
                  <a:pt x="24557" y="6664"/>
                  <a:pt x="24557" y="6681"/>
                  <a:pt x="24557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97800" y="2463840"/>
            <a:ext cx="455400" cy="250920"/>
          </a:xfrm>
          <a:custGeom>
            <a:avLst/>
            <a:gdLst/>
            <a:ahLst/>
            <a:rect l="l" t="t" r="r" b="b"/>
            <a:pathLst>
              <a:path w="1266" h="696">
                <a:moveTo>
                  <a:pt x="18926" y="6921"/>
                </a:moveTo>
                <a:cubicBezTo>
                  <a:pt x="18909" y="7048"/>
                  <a:pt x="18901" y="7165"/>
                  <a:pt x="18901" y="7293"/>
                </a:cubicBezTo>
                <a:cubicBezTo>
                  <a:pt x="18901" y="7301"/>
                  <a:pt x="18901" y="7309"/>
                  <a:pt x="18901" y="7317"/>
                </a:cubicBezTo>
              </a:path>
              <a:path w="1266" h="696">
                <a:moveTo>
                  <a:pt x="19199" y="6945"/>
                </a:moveTo>
                <a:cubicBezTo>
                  <a:pt x="19228" y="6868"/>
                  <a:pt x="19237" y="6865"/>
                  <a:pt x="19323" y="6846"/>
                </a:cubicBezTo>
                <a:cubicBezTo>
                  <a:pt x="19355" y="6930"/>
                  <a:pt x="19372" y="6967"/>
                  <a:pt x="19298" y="7020"/>
                </a:cubicBezTo>
                <a:cubicBezTo>
                  <a:pt x="19244" y="7058"/>
                  <a:pt x="19166" y="7121"/>
                  <a:pt x="19149" y="7193"/>
                </a:cubicBezTo>
                <a:cubicBezTo>
                  <a:pt x="19149" y="7245"/>
                  <a:pt x="19148" y="7263"/>
                  <a:pt x="19124" y="7293"/>
                </a:cubicBezTo>
                <a:cubicBezTo>
                  <a:pt x="19196" y="7186"/>
                  <a:pt x="19199" y="7204"/>
                  <a:pt x="19298" y="7268"/>
                </a:cubicBezTo>
                <a:cubicBezTo>
                  <a:pt x="19339" y="7295"/>
                  <a:pt x="19418" y="7339"/>
                  <a:pt x="19472" y="7317"/>
                </a:cubicBezTo>
                <a:cubicBezTo>
                  <a:pt x="19480" y="7309"/>
                  <a:pt x="19488" y="7301"/>
                  <a:pt x="19496" y="7293"/>
                </a:cubicBezTo>
              </a:path>
              <a:path w="1266" h="696">
                <a:moveTo>
                  <a:pt x="18604" y="7466"/>
                </a:moveTo>
                <a:cubicBezTo>
                  <a:pt x="18656" y="7444"/>
                  <a:pt x="18718" y="7425"/>
                  <a:pt x="18777" y="7441"/>
                </a:cubicBezTo>
                <a:cubicBezTo>
                  <a:pt x="18836" y="7458"/>
                  <a:pt x="18895" y="7464"/>
                  <a:pt x="18951" y="7491"/>
                </a:cubicBezTo>
                <a:cubicBezTo>
                  <a:pt x="19029" y="7528"/>
                  <a:pt x="19075" y="7524"/>
                  <a:pt x="19149" y="7516"/>
                </a:cubicBezTo>
                <a:cubicBezTo>
                  <a:pt x="19283" y="7501"/>
                  <a:pt x="19414" y="7511"/>
                  <a:pt x="19546" y="7491"/>
                </a:cubicBezTo>
                <a:cubicBezTo>
                  <a:pt x="19598" y="7483"/>
                  <a:pt x="19753" y="7460"/>
                  <a:pt x="19794" y="7466"/>
                </a:cubicBezTo>
                <a:cubicBezTo>
                  <a:pt x="19824" y="7496"/>
                  <a:pt x="19838" y="7501"/>
                  <a:pt x="19869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2697120"/>
            <a:ext cx="349200" cy="204840"/>
          </a:xfrm>
          <a:custGeom>
            <a:avLst/>
            <a:gdLst/>
            <a:ahLst/>
            <a:rect l="l" t="t" r="r" b="b"/>
            <a:pathLst>
              <a:path w="969" h="572">
                <a:moveTo>
                  <a:pt x="18752" y="7689"/>
                </a:moveTo>
                <a:cubicBezTo>
                  <a:pt x="18846" y="7690"/>
                  <a:pt x="18893" y="7634"/>
                  <a:pt x="18976" y="7590"/>
                </a:cubicBezTo>
                <a:cubicBezTo>
                  <a:pt x="19012" y="7798"/>
                  <a:pt x="19005" y="7965"/>
                  <a:pt x="18752" y="8037"/>
                </a:cubicBezTo>
                <a:cubicBezTo>
                  <a:pt x="18660" y="8037"/>
                  <a:pt x="18629" y="8043"/>
                  <a:pt x="18628" y="7962"/>
                </a:cubicBezTo>
                <a:cubicBezTo>
                  <a:pt x="18770" y="7912"/>
                  <a:pt x="18847" y="7901"/>
                  <a:pt x="18976" y="7987"/>
                </a:cubicBezTo>
                <a:cubicBezTo>
                  <a:pt x="19005" y="8017"/>
                  <a:pt x="19016" y="8032"/>
                  <a:pt x="19025" y="8062"/>
                </a:cubicBezTo>
              </a:path>
              <a:path w="969" h="572">
                <a:moveTo>
                  <a:pt x="19298" y="7615"/>
                </a:moveTo>
                <a:cubicBezTo>
                  <a:pt x="19291" y="7681"/>
                  <a:pt x="19275" y="7728"/>
                  <a:pt x="19248" y="7789"/>
                </a:cubicBezTo>
                <a:cubicBezTo>
                  <a:pt x="19332" y="7824"/>
                  <a:pt x="19478" y="7798"/>
                  <a:pt x="19596" y="7789"/>
                </a:cubicBezTo>
              </a:path>
              <a:path w="969" h="572">
                <a:moveTo>
                  <a:pt x="19596" y="7491"/>
                </a:moveTo>
                <a:cubicBezTo>
                  <a:pt x="19581" y="7639"/>
                  <a:pt x="19557" y="7789"/>
                  <a:pt x="19546" y="7938"/>
                </a:cubicBezTo>
                <a:cubicBezTo>
                  <a:pt x="19546" y="7971"/>
                  <a:pt x="19546" y="8004"/>
                  <a:pt x="19546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42120" y="2527200"/>
            <a:ext cx="285840" cy="312840"/>
          </a:xfrm>
          <a:custGeom>
            <a:avLst/>
            <a:gdLst/>
            <a:ahLst/>
            <a:rect l="l" t="t" r="r" b="b"/>
            <a:pathLst>
              <a:path w="794" h="869">
                <a:moveTo>
                  <a:pt x="20117" y="7417"/>
                </a:moveTo>
                <a:cubicBezTo>
                  <a:pt x="20167" y="7356"/>
                  <a:pt x="20247" y="7346"/>
                  <a:pt x="20340" y="7367"/>
                </a:cubicBezTo>
                <a:cubicBezTo>
                  <a:pt x="20356" y="7375"/>
                  <a:pt x="20373" y="7384"/>
                  <a:pt x="20389" y="7392"/>
                </a:cubicBezTo>
              </a:path>
              <a:path w="794" h="869">
                <a:moveTo>
                  <a:pt x="20191" y="7193"/>
                </a:moveTo>
                <a:lnTo>
                  <a:pt x="20191" y="7193"/>
                </a:lnTo>
              </a:path>
              <a:path w="794" h="869">
                <a:moveTo>
                  <a:pt x="20265" y="7590"/>
                </a:moveTo>
                <a:lnTo>
                  <a:pt x="20265" y="7590"/>
                </a:lnTo>
              </a:path>
              <a:path w="794" h="869">
                <a:moveTo>
                  <a:pt x="20588" y="7069"/>
                </a:moveTo>
                <a:cubicBezTo>
                  <a:pt x="20676" y="7025"/>
                  <a:pt x="20698" y="7009"/>
                  <a:pt x="20762" y="7020"/>
                </a:cubicBezTo>
                <a:cubicBezTo>
                  <a:pt x="20748" y="7119"/>
                  <a:pt x="20725" y="7168"/>
                  <a:pt x="20662" y="7243"/>
                </a:cubicBezTo>
                <a:cubicBezTo>
                  <a:pt x="20730" y="7266"/>
                  <a:pt x="20801" y="7230"/>
                  <a:pt x="20886" y="7218"/>
                </a:cubicBezTo>
              </a:path>
              <a:path w="794" h="869">
                <a:moveTo>
                  <a:pt x="20588" y="7491"/>
                </a:moveTo>
                <a:cubicBezTo>
                  <a:pt x="20697" y="7449"/>
                  <a:pt x="20796" y="7411"/>
                  <a:pt x="20910" y="7392"/>
                </a:cubicBezTo>
              </a:path>
              <a:path w="794" h="869">
                <a:moveTo>
                  <a:pt x="20613" y="7640"/>
                </a:moveTo>
                <a:cubicBezTo>
                  <a:pt x="20695" y="7612"/>
                  <a:pt x="20727" y="7602"/>
                  <a:pt x="20786" y="7590"/>
                </a:cubicBezTo>
                <a:cubicBezTo>
                  <a:pt x="20765" y="7708"/>
                  <a:pt x="20568" y="7899"/>
                  <a:pt x="20687" y="7888"/>
                </a:cubicBezTo>
                <a:cubicBezTo>
                  <a:pt x="20779" y="7865"/>
                  <a:pt x="20804" y="7859"/>
                  <a:pt x="20861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78800" y="2446200"/>
            <a:ext cx="1376280" cy="474840"/>
          </a:xfrm>
          <a:custGeom>
            <a:avLst/>
            <a:gdLst/>
            <a:ahLst/>
            <a:rect l="l" t="t" r="r" b="b"/>
            <a:pathLst>
              <a:path w="3821" h="1316">
                <a:moveTo>
                  <a:pt x="21332" y="7367"/>
                </a:moveTo>
                <a:cubicBezTo>
                  <a:pt x="21382" y="7367"/>
                  <a:pt x="21398" y="7367"/>
                  <a:pt x="21431" y="7367"/>
                </a:cubicBezTo>
              </a:path>
              <a:path w="3821" h="1316">
                <a:moveTo>
                  <a:pt x="21332" y="7541"/>
                </a:moveTo>
                <a:cubicBezTo>
                  <a:pt x="21365" y="7541"/>
                  <a:pt x="21398" y="7541"/>
                  <a:pt x="21431" y="7541"/>
                </a:cubicBezTo>
              </a:path>
              <a:path w="3821" h="1316">
                <a:moveTo>
                  <a:pt x="21927" y="6796"/>
                </a:moveTo>
                <a:cubicBezTo>
                  <a:pt x="21863" y="6941"/>
                  <a:pt x="21800" y="7065"/>
                  <a:pt x="21828" y="7218"/>
                </a:cubicBezTo>
                <a:cubicBezTo>
                  <a:pt x="21990" y="7218"/>
                  <a:pt x="22110" y="7227"/>
                  <a:pt x="22225" y="7094"/>
                </a:cubicBezTo>
                <a:cubicBezTo>
                  <a:pt x="22225" y="7054"/>
                  <a:pt x="22214" y="7035"/>
                  <a:pt x="22175" y="7020"/>
                </a:cubicBezTo>
                <a:cubicBezTo>
                  <a:pt x="22047" y="7084"/>
                  <a:pt x="22054" y="7082"/>
                  <a:pt x="22027" y="7218"/>
                </a:cubicBezTo>
              </a:path>
              <a:path w="3821" h="1316">
                <a:moveTo>
                  <a:pt x="21580" y="7317"/>
                </a:moveTo>
                <a:cubicBezTo>
                  <a:pt x="21778" y="7331"/>
                  <a:pt x="21977" y="7342"/>
                  <a:pt x="22175" y="7367"/>
                </a:cubicBezTo>
                <a:cubicBezTo>
                  <a:pt x="22299" y="7388"/>
                  <a:pt x="22323" y="7396"/>
                  <a:pt x="22399" y="7392"/>
                </a:cubicBezTo>
              </a:path>
              <a:path w="3821" h="1316">
                <a:moveTo>
                  <a:pt x="21679" y="7590"/>
                </a:moveTo>
                <a:cubicBezTo>
                  <a:pt x="21670" y="7732"/>
                  <a:pt x="21654" y="7869"/>
                  <a:pt x="21654" y="8012"/>
                </a:cubicBezTo>
              </a:path>
              <a:path w="3821" h="1316">
                <a:moveTo>
                  <a:pt x="21927" y="7615"/>
                </a:moveTo>
                <a:cubicBezTo>
                  <a:pt x="21957" y="7609"/>
                  <a:pt x="22228" y="7526"/>
                  <a:pt x="22175" y="7665"/>
                </a:cubicBezTo>
                <a:cubicBezTo>
                  <a:pt x="22143" y="7749"/>
                  <a:pt x="22049" y="7834"/>
                  <a:pt x="22002" y="7913"/>
                </a:cubicBezTo>
                <a:cubicBezTo>
                  <a:pt x="22115" y="7926"/>
                  <a:pt x="22165" y="7928"/>
                  <a:pt x="22275" y="7888"/>
                </a:cubicBezTo>
              </a:path>
              <a:path w="3821" h="1316">
                <a:moveTo>
                  <a:pt x="22671" y="7293"/>
                </a:moveTo>
                <a:cubicBezTo>
                  <a:pt x="22734" y="7285"/>
                  <a:pt x="22780" y="7268"/>
                  <a:pt x="22845" y="7268"/>
                </a:cubicBezTo>
              </a:path>
              <a:path w="3821" h="1316">
                <a:moveTo>
                  <a:pt x="22771" y="7069"/>
                </a:moveTo>
                <a:lnTo>
                  <a:pt x="22771" y="7069"/>
                </a:lnTo>
              </a:path>
              <a:path w="3821" h="1316">
                <a:moveTo>
                  <a:pt x="22746" y="7417"/>
                </a:moveTo>
                <a:lnTo>
                  <a:pt x="22746" y="7417"/>
                </a:lnTo>
              </a:path>
              <a:path w="3821" h="1316">
                <a:moveTo>
                  <a:pt x="22969" y="7094"/>
                </a:moveTo>
                <a:cubicBezTo>
                  <a:pt x="23002" y="7086"/>
                  <a:pt x="23035" y="7077"/>
                  <a:pt x="23068" y="7069"/>
                </a:cubicBezTo>
                <a:cubicBezTo>
                  <a:pt x="23068" y="7180"/>
                  <a:pt x="23012" y="7187"/>
                  <a:pt x="23118" y="7193"/>
                </a:cubicBezTo>
                <a:cubicBezTo>
                  <a:pt x="23263" y="7201"/>
                  <a:pt x="23085" y="7313"/>
                  <a:pt x="23044" y="7342"/>
                </a:cubicBezTo>
              </a:path>
              <a:path w="3821" h="1316">
                <a:moveTo>
                  <a:pt x="23019" y="7516"/>
                </a:moveTo>
                <a:cubicBezTo>
                  <a:pt x="23122" y="7498"/>
                  <a:pt x="23211" y="7491"/>
                  <a:pt x="23316" y="7491"/>
                </a:cubicBezTo>
              </a:path>
              <a:path w="3821" h="1316">
                <a:moveTo>
                  <a:pt x="22994" y="7689"/>
                </a:moveTo>
                <a:cubicBezTo>
                  <a:pt x="23051" y="7682"/>
                  <a:pt x="23234" y="7604"/>
                  <a:pt x="23118" y="7764"/>
                </a:cubicBezTo>
                <a:cubicBezTo>
                  <a:pt x="23093" y="7780"/>
                  <a:pt x="23069" y="7797"/>
                  <a:pt x="23044" y="7813"/>
                </a:cubicBezTo>
                <a:cubicBezTo>
                  <a:pt x="23140" y="7842"/>
                  <a:pt x="23294" y="7844"/>
                  <a:pt x="23118" y="7962"/>
                </a:cubicBezTo>
                <a:cubicBezTo>
                  <a:pt x="23044" y="7987"/>
                  <a:pt x="23019" y="7995"/>
                  <a:pt x="22969" y="7962"/>
                </a:cubicBezTo>
              </a:path>
              <a:path w="3821" h="1316">
                <a:moveTo>
                  <a:pt x="23515" y="7466"/>
                </a:moveTo>
                <a:cubicBezTo>
                  <a:pt x="23573" y="7466"/>
                  <a:pt x="23598" y="7466"/>
                  <a:pt x="23639" y="7466"/>
                </a:cubicBezTo>
              </a:path>
              <a:path w="3821" h="1316">
                <a:moveTo>
                  <a:pt x="23515" y="7615"/>
                </a:moveTo>
                <a:cubicBezTo>
                  <a:pt x="23548" y="7607"/>
                  <a:pt x="23581" y="7598"/>
                  <a:pt x="23614" y="7590"/>
                </a:cubicBezTo>
              </a:path>
              <a:path w="3821" h="1316">
                <a:moveTo>
                  <a:pt x="24085" y="6846"/>
                </a:moveTo>
                <a:cubicBezTo>
                  <a:pt x="24211" y="6795"/>
                  <a:pt x="24382" y="6753"/>
                  <a:pt x="24457" y="6921"/>
                </a:cubicBezTo>
                <a:cubicBezTo>
                  <a:pt x="24550" y="7131"/>
                  <a:pt x="24295" y="7219"/>
                  <a:pt x="24160" y="7243"/>
                </a:cubicBezTo>
                <a:cubicBezTo>
                  <a:pt x="24160" y="7119"/>
                  <a:pt x="24234" y="7109"/>
                  <a:pt x="24358" y="7119"/>
                </a:cubicBezTo>
                <a:cubicBezTo>
                  <a:pt x="24476" y="7128"/>
                  <a:pt x="24556" y="7190"/>
                  <a:pt x="24581" y="7293"/>
                </a:cubicBezTo>
              </a:path>
              <a:path w="3821" h="1316">
                <a:moveTo>
                  <a:pt x="24110" y="7466"/>
                </a:moveTo>
                <a:cubicBezTo>
                  <a:pt x="24258" y="7410"/>
                  <a:pt x="24463" y="7444"/>
                  <a:pt x="24631" y="7417"/>
                </a:cubicBezTo>
                <a:cubicBezTo>
                  <a:pt x="24664" y="7409"/>
                  <a:pt x="24697" y="7400"/>
                  <a:pt x="24730" y="7392"/>
                </a:cubicBezTo>
              </a:path>
              <a:path w="3821" h="1316">
                <a:moveTo>
                  <a:pt x="24160" y="7615"/>
                </a:moveTo>
                <a:lnTo>
                  <a:pt x="24160" y="7615"/>
                </a:lnTo>
              </a:path>
              <a:path w="3821" h="1316">
                <a:moveTo>
                  <a:pt x="24383" y="7590"/>
                </a:moveTo>
                <a:cubicBezTo>
                  <a:pt x="24376" y="7765"/>
                  <a:pt x="24370" y="7941"/>
                  <a:pt x="24333" y="8111"/>
                </a:cubicBezTo>
              </a:path>
              <a:path w="3821" h="1316">
                <a:moveTo>
                  <a:pt x="23937" y="7590"/>
                </a:moveTo>
                <a:cubicBezTo>
                  <a:pt x="24064" y="7627"/>
                  <a:pt x="23980" y="7704"/>
                  <a:pt x="23961" y="7813"/>
                </a:cubicBezTo>
                <a:cubicBezTo>
                  <a:pt x="23939" y="7940"/>
                  <a:pt x="24074" y="7868"/>
                  <a:pt x="24135" y="7863"/>
                </a:cubicBezTo>
                <a:cubicBezTo>
                  <a:pt x="24209" y="7863"/>
                  <a:pt x="24218" y="7863"/>
                  <a:pt x="24259" y="7863"/>
                </a:cubicBezTo>
              </a:path>
              <a:path w="3821" h="1316">
                <a:moveTo>
                  <a:pt x="24284" y="7689"/>
                </a:moveTo>
                <a:cubicBezTo>
                  <a:pt x="24264" y="7629"/>
                  <a:pt x="24245" y="7614"/>
                  <a:pt x="24284" y="7590"/>
                </a:cubicBezTo>
                <a:cubicBezTo>
                  <a:pt x="24284" y="7711"/>
                  <a:pt x="24274" y="7821"/>
                  <a:pt x="24259" y="7938"/>
                </a:cubicBezTo>
                <a:cubicBezTo>
                  <a:pt x="24254" y="7975"/>
                  <a:pt x="24259" y="8025"/>
                  <a:pt x="24259" y="8062"/>
                </a:cubicBezTo>
              </a:path>
              <a:path w="3821" h="1316">
                <a:moveTo>
                  <a:pt x="24581" y="7615"/>
                </a:moveTo>
                <a:cubicBezTo>
                  <a:pt x="24640" y="7652"/>
                  <a:pt x="24693" y="7683"/>
                  <a:pt x="24755" y="7714"/>
                </a:cubicBezTo>
              </a:path>
              <a:path w="3821" h="1316">
                <a:moveTo>
                  <a:pt x="24755" y="7541"/>
                </a:moveTo>
                <a:lnTo>
                  <a:pt x="24755" y="7541"/>
                </a:lnTo>
              </a:path>
              <a:path w="3821" h="1316">
                <a:moveTo>
                  <a:pt x="24631" y="7789"/>
                </a:moveTo>
                <a:lnTo>
                  <a:pt x="24631" y="7789"/>
                </a:lnTo>
              </a:path>
              <a:path w="3821" h="1316">
                <a:moveTo>
                  <a:pt x="24854" y="7367"/>
                </a:moveTo>
                <a:cubicBezTo>
                  <a:pt x="24887" y="7367"/>
                  <a:pt x="24921" y="7367"/>
                  <a:pt x="24954" y="7367"/>
                </a:cubicBezTo>
                <a:cubicBezTo>
                  <a:pt x="24926" y="7450"/>
                  <a:pt x="24849" y="7533"/>
                  <a:pt x="24929" y="7541"/>
                </a:cubicBezTo>
                <a:cubicBezTo>
                  <a:pt x="24937" y="7541"/>
                  <a:pt x="24946" y="7541"/>
                  <a:pt x="24954" y="7541"/>
                </a:cubicBezTo>
              </a:path>
              <a:path w="3821" h="1316">
                <a:moveTo>
                  <a:pt x="24854" y="7640"/>
                </a:moveTo>
                <a:cubicBezTo>
                  <a:pt x="24936" y="7613"/>
                  <a:pt x="24969" y="7602"/>
                  <a:pt x="25028" y="7590"/>
                </a:cubicBezTo>
              </a:path>
              <a:path w="3821" h="1316">
                <a:moveTo>
                  <a:pt x="24854" y="7789"/>
                </a:moveTo>
                <a:cubicBezTo>
                  <a:pt x="24891" y="7767"/>
                  <a:pt x="24917" y="7761"/>
                  <a:pt x="24954" y="7739"/>
                </a:cubicBezTo>
                <a:cubicBezTo>
                  <a:pt x="24930" y="7795"/>
                  <a:pt x="24810" y="7932"/>
                  <a:pt x="24904" y="7913"/>
                </a:cubicBezTo>
                <a:cubicBezTo>
                  <a:pt x="24929" y="7905"/>
                  <a:pt x="24953" y="7896"/>
                  <a:pt x="24978" y="7888"/>
                </a:cubicBezTo>
              </a:path>
              <a:path w="3821" h="1316">
                <a:moveTo>
                  <a:pt x="25078" y="7243"/>
                </a:moveTo>
                <a:cubicBezTo>
                  <a:pt x="25094" y="7235"/>
                  <a:pt x="25111" y="7226"/>
                  <a:pt x="25127" y="7218"/>
                </a:cubicBezTo>
              </a:path>
              <a:path w="3821" h="1316">
                <a:moveTo>
                  <a:pt x="25078" y="7417"/>
                </a:moveTo>
                <a:cubicBezTo>
                  <a:pt x="25103" y="7409"/>
                  <a:pt x="25127" y="7400"/>
                  <a:pt x="25152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4960" y="2446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486" y="6796"/>
                </a:moveTo>
                <a:lnTo>
                  <a:pt x="14486" y="679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1320" y="3929040"/>
            <a:ext cx="258840" cy="428760"/>
          </a:xfrm>
          <a:custGeom>
            <a:avLst/>
            <a:gdLst/>
            <a:ahLst/>
            <a:rect l="l" t="t" r="r" b="b"/>
            <a:pathLst>
              <a:path w="721" h="1192">
                <a:moveTo>
                  <a:pt x="8582" y="10939"/>
                </a:moveTo>
                <a:cubicBezTo>
                  <a:pt x="8545" y="10937"/>
                  <a:pt x="8558" y="11170"/>
                  <a:pt x="8558" y="11261"/>
                </a:cubicBezTo>
                <a:cubicBezTo>
                  <a:pt x="8558" y="11303"/>
                  <a:pt x="8558" y="11311"/>
                  <a:pt x="8558" y="11336"/>
                </a:cubicBezTo>
              </a:path>
              <a:path w="721" h="1192">
                <a:moveTo>
                  <a:pt x="8086" y="11559"/>
                </a:moveTo>
                <a:cubicBezTo>
                  <a:pt x="8299" y="11548"/>
                  <a:pt x="8496" y="11525"/>
                  <a:pt x="8706" y="11534"/>
                </a:cubicBezTo>
                <a:cubicBezTo>
                  <a:pt x="8739" y="11534"/>
                  <a:pt x="8773" y="11534"/>
                  <a:pt x="8806" y="11534"/>
                </a:cubicBezTo>
              </a:path>
              <a:path w="721" h="1192">
                <a:moveTo>
                  <a:pt x="8384" y="11683"/>
                </a:moveTo>
                <a:cubicBezTo>
                  <a:pt x="8453" y="11653"/>
                  <a:pt x="8510" y="11622"/>
                  <a:pt x="8582" y="11658"/>
                </a:cubicBezTo>
                <a:cubicBezTo>
                  <a:pt x="8667" y="11701"/>
                  <a:pt x="8576" y="11791"/>
                  <a:pt x="8533" y="11807"/>
                </a:cubicBezTo>
                <a:cubicBezTo>
                  <a:pt x="8457" y="11835"/>
                  <a:pt x="8375" y="11837"/>
                  <a:pt x="8310" y="11906"/>
                </a:cubicBezTo>
                <a:cubicBezTo>
                  <a:pt x="8262" y="11957"/>
                  <a:pt x="8258" y="12044"/>
                  <a:pt x="8235" y="12105"/>
                </a:cubicBezTo>
                <a:cubicBezTo>
                  <a:pt x="8267" y="12053"/>
                  <a:pt x="8350" y="11932"/>
                  <a:pt x="8434" y="11956"/>
                </a:cubicBezTo>
                <a:cubicBezTo>
                  <a:pt x="8513" y="11978"/>
                  <a:pt x="8518" y="12079"/>
                  <a:pt x="8632" y="12055"/>
                </a:cubicBezTo>
                <a:cubicBezTo>
                  <a:pt x="8649" y="12047"/>
                  <a:pt x="8665" y="12038"/>
                  <a:pt x="8682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41880" y="3732120"/>
            <a:ext cx="1089000" cy="1135080"/>
          </a:xfrm>
          <a:custGeom>
            <a:avLst/>
            <a:gdLst/>
            <a:ahLst/>
            <a:rect l="l" t="t" r="r" b="b"/>
            <a:pathLst>
              <a:path w="3027" h="3152">
                <a:moveTo>
                  <a:pt x="13196" y="11534"/>
                </a:moveTo>
                <a:cubicBezTo>
                  <a:pt x="13196" y="11499"/>
                  <a:pt x="13191" y="11482"/>
                  <a:pt x="13171" y="11460"/>
                </a:cubicBezTo>
                <a:cubicBezTo>
                  <a:pt x="13171" y="11342"/>
                  <a:pt x="13214" y="11640"/>
                  <a:pt x="13221" y="11757"/>
                </a:cubicBezTo>
                <a:cubicBezTo>
                  <a:pt x="13221" y="11898"/>
                  <a:pt x="13221" y="11922"/>
                  <a:pt x="13221" y="12005"/>
                </a:cubicBezTo>
              </a:path>
              <a:path w="3027" h="3152">
                <a:moveTo>
                  <a:pt x="12849" y="12055"/>
                </a:moveTo>
                <a:cubicBezTo>
                  <a:pt x="12794" y="11945"/>
                  <a:pt x="12740" y="11822"/>
                  <a:pt x="12700" y="11708"/>
                </a:cubicBezTo>
                <a:cubicBezTo>
                  <a:pt x="12638" y="11532"/>
                  <a:pt x="12597" y="11321"/>
                  <a:pt x="12576" y="11137"/>
                </a:cubicBezTo>
                <a:cubicBezTo>
                  <a:pt x="12672" y="11108"/>
                  <a:pt x="12789" y="11080"/>
                  <a:pt x="12898" y="11063"/>
                </a:cubicBezTo>
                <a:cubicBezTo>
                  <a:pt x="13171" y="11020"/>
                  <a:pt x="13466" y="11017"/>
                  <a:pt x="13742" y="11013"/>
                </a:cubicBezTo>
                <a:cubicBezTo>
                  <a:pt x="13988" y="11009"/>
                  <a:pt x="14240" y="10931"/>
                  <a:pt x="14486" y="10964"/>
                </a:cubicBezTo>
                <a:cubicBezTo>
                  <a:pt x="14569" y="10975"/>
                  <a:pt x="14680" y="10988"/>
                  <a:pt x="14759" y="11013"/>
                </a:cubicBezTo>
                <a:cubicBezTo>
                  <a:pt x="14775" y="11021"/>
                  <a:pt x="14792" y="11030"/>
                  <a:pt x="14808" y="11038"/>
                </a:cubicBezTo>
              </a:path>
              <a:path w="3027" h="3152">
                <a:moveTo>
                  <a:pt x="12179" y="11261"/>
                </a:moveTo>
                <a:cubicBezTo>
                  <a:pt x="12099" y="11411"/>
                  <a:pt x="12129" y="11489"/>
                  <a:pt x="12055" y="11311"/>
                </a:cubicBezTo>
                <a:cubicBezTo>
                  <a:pt x="12240" y="11200"/>
                  <a:pt x="12328" y="11377"/>
                  <a:pt x="12303" y="11584"/>
                </a:cubicBezTo>
                <a:cubicBezTo>
                  <a:pt x="12267" y="11882"/>
                  <a:pt x="12090" y="11993"/>
                  <a:pt x="11832" y="12030"/>
                </a:cubicBezTo>
                <a:cubicBezTo>
                  <a:pt x="11694" y="11826"/>
                  <a:pt x="12017" y="11797"/>
                  <a:pt x="12179" y="11807"/>
                </a:cubicBezTo>
                <a:cubicBezTo>
                  <a:pt x="12366" y="11818"/>
                  <a:pt x="12387" y="11891"/>
                  <a:pt x="12452" y="12030"/>
                </a:cubicBezTo>
              </a:path>
              <a:path w="3027" h="3152">
                <a:moveTo>
                  <a:pt x="13494" y="11956"/>
                </a:moveTo>
                <a:cubicBezTo>
                  <a:pt x="13470" y="12004"/>
                  <a:pt x="13460" y="12020"/>
                  <a:pt x="13519" y="12005"/>
                </a:cubicBezTo>
                <a:cubicBezTo>
                  <a:pt x="13614" y="11815"/>
                  <a:pt x="13435" y="11971"/>
                  <a:pt x="13444" y="11981"/>
                </a:cubicBezTo>
                <a:cubicBezTo>
                  <a:pt x="13469" y="11989"/>
                  <a:pt x="13494" y="11997"/>
                  <a:pt x="13519" y="12005"/>
                </a:cubicBezTo>
              </a:path>
              <a:path w="3027" h="3152">
                <a:moveTo>
                  <a:pt x="14039" y="11509"/>
                </a:moveTo>
                <a:cubicBezTo>
                  <a:pt x="13910" y="11558"/>
                  <a:pt x="13901" y="11716"/>
                  <a:pt x="13891" y="11857"/>
                </a:cubicBezTo>
                <a:cubicBezTo>
                  <a:pt x="13891" y="11986"/>
                  <a:pt x="13880" y="12019"/>
                  <a:pt x="13940" y="12080"/>
                </a:cubicBezTo>
                <a:cubicBezTo>
                  <a:pt x="14113" y="12069"/>
                  <a:pt x="14255" y="11956"/>
                  <a:pt x="14213" y="11733"/>
                </a:cubicBezTo>
                <a:cubicBezTo>
                  <a:pt x="14192" y="11619"/>
                  <a:pt x="14072" y="11639"/>
                  <a:pt x="13990" y="11633"/>
                </a:cubicBezTo>
              </a:path>
              <a:path w="3027" h="3152">
                <a:moveTo>
                  <a:pt x="13593" y="10864"/>
                </a:moveTo>
                <a:cubicBezTo>
                  <a:pt x="13518" y="10865"/>
                  <a:pt x="13525" y="10994"/>
                  <a:pt x="13618" y="10914"/>
                </a:cubicBezTo>
                <a:cubicBezTo>
                  <a:pt x="13645" y="10860"/>
                  <a:pt x="13650" y="10840"/>
                  <a:pt x="13593" y="10815"/>
                </a:cubicBezTo>
                <a:cubicBezTo>
                  <a:pt x="13576" y="10840"/>
                  <a:pt x="13560" y="10864"/>
                  <a:pt x="13543" y="10889"/>
                </a:cubicBezTo>
                <a:cubicBezTo>
                  <a:pt x="13618" y="11039"/>
                  <a:pt x="13631" y="10839"/>
                  <a:pt x="13593" y="10889"/>
                </a:cubicBezTo>
                <a:cubicBezTo>
                  <a:pt x="13517" y="10987"/>
                  <a:pt x="13594" y="10975"/>
                  <a:pt x="13618" y="10939"/>
                </a:cubicBezTo>
              </a:path>
              <a:path w="3027" h="3152">
                <a:moveTo>
                  <a:pt x="14213" y="10368"/>
                </a:moveTo>
                <a:cubicBezTo>
                  <a:pt x="14138" y="10421"/>
                  <a:pt x="14062" y="10462"/>
                  <a:pt x="13965" y="10468"/>
                </a:cubicBezTo>
                <a:cubicBezTo>
                  <a:pt x="13850" y="10475"/>
                  <a:pt x="13866" y="10546"/>
                  <a:pt x="13866" y="10641"/>
                </a:cubicBezTo>
                <a:cubicBezTo>
                  <a:pt x="13866" y="10666"/>
                  <a:pt x="13866" y="10691"/>
                  <a:pt x="13866" y="10716"/>
                </a:cubicBezTo>
                <a:cubicBezTo>
                  <a:pt x="13980" y="10672"/>
                  <a:pt x="14089" y="10583"/>
                  <a:pt x="14213" y="10641"/>
                </a:cubicBezTo>
                <a:cubicBezTo>
                  <a:pt x="14334" y="10698"/>
                  <a:pt x="14062" y="10901"/>
                  <a:pt x="14039" y="10914"/>
                </a:cubicBezTo>
                <a:cubicBezTo>
                  <a:pt x="13929" y="10975"/>
                  <a:pt x="13893" y="10973"/>
                  <a:pt x="13791" y="10939"/>
                </a:cubicBezTo>
                <a:cubicBezTo>
                  <a:pt x="13855" y="10925"/>
                  <a:pt x="13871" y="10927"/>
                  <a:pt x="13940" y="10939"/>
                </a:cubicBezTo>
              </a:path>
              <a:path w="3027" h="3152">
                <a:moveTo>
                  <a:pt x="13444" y="12129"/>
                </a:moveTo>
                <a:cubicBezTo>
                  <a:pt x="13444" y="12275"/>
                  <a:pt x="13453" y="12410"/>
                  <a:pt x="13469" y="12551"/>
                </a:cubicBezTo>
              </a:path>
              <a:path w="3027" h="3152">
                <a:moveTo>
                  <a:pt x="13940" y="12154"/>
                </a:moveTo>
                <a:cubicBezTo>
                  <a:pt x="13837" y="12169"/>
                  <a:pt x="13812" y="12249"/>
                  <a:pt x="13791" y="12353"/>
                </a:cubicBezTo>
                <a:cubicBezTo>
                  <a:pt x="13779" y="12413"/>
                  <a:pt x="13790" y="12457"/>
                  <a:pt x="13816" y="12502"/>
                </a:cubicBezTo>
                <a:cubicBezTo>
                  <a:pt x="13853" y="12565"/>
                  <a:pt x="13965" y="12635"/>
                  <a:pt x="14039" y="12576"/>
                </a:cubicBezTo>
                <a:cubicBezTo>
                  <a:pt x="14123" y="12509"/>
                  <a:pt x="14204" y="12303"/>
                  <a:pt x="14139" y="12204"/>
                </a:cubicBezTo>
                <a:cubicBezTo>
                  <a:pt x="14074" y="12105"/>
                  <a:pt x="13954" y="12141"/>
                  <a:pt x="13866" y="12154"/>
                </a:cubicBezTo>
              </a:path>
              <a:path w="3027" h="3152">
                <a:moveTo>
                  <a:pt x="12923" y="12229"/>
                </a:moveTo>
                <a:cubicBezTo>
                  <a:pt x="13011" y="12276"/>
                  <a:pt x="13073" y="12312"/>
                  <a:pt x="13146" y="12378"/>
                </a:cubicBezTo>
              </a:path>
              <a:path w="3027" h="3152">
                <a:moveTo>
                  <a:pt x="13295" y="12750"/>
                </a:moveTo>
                <a:cubicBezTo>
                  <a:pt x="13507" y="12731"/>
                  <a:pt x="13702" y="12746"/>
                  <a:pt x="13915" y="12750"/>
                </a:cubicBezTo>
                <a:cubicBezTo>
                  <a:pt x="13990" y="12750"/>
                  <a:pt x="13998" y="12750"/>
                  <a:pt x="14039" y="12750"/>
                </a:cubicBezTo>
              </a:path>
              <a:path w="3027" h="3152">
                <a:moveTo>
                  <a:pt x="14089" y="12948"/>
                </a:moveTo>
                <a:cubicBezTo>
                  <a:pt x="13998" y="13021"/>
                  <a:pt x="13967" y="13193"/>
                  <a:pt x="13990" y="13320"/>
                </a:cubicBezTo>
                <a:cubicBezTo>
                  <a:pt x="14032" y="13427"/>
                  <a:pt x="14043" y="13451"/>
                  <a:pt x="14064" y="13519"/>
                </a:cubicBezTo>
                <a:cubicBezTo>
                  <a:pt x="14213" y="13474"/>
                  <a:pt x="14327" y="13349"/>
                  <a:pt x="14312" y="13171"/>
                </a:cubicBezTo>
                <a:cubicBezTo>
                  <a:pt x="14296" y="12982"/>
                  <a:pt x="14175" y="12986"/>
                  <a:pt x="14039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83200" y="3821040"/>
            <a:ext cx="723960" cy="600120"/>
          </a:xfrm>
          <a:custGeom>
            <a:avLst/>
            <a:gdLst/>
            <a:ahLst/>
            <a:rect l="l" t="t" r="r" b="b"/>
            <a:pathLst>
              <a:path w="2010" h="1663">
                <a:moveTo>
                  <a:pt x="17140" y="11633"/>
                </a:moveTo>
                <a:cubicBezTo>
                  <a:pt x="17120" y="11702"/>
                  <a:pt x="17044" y="11765"/>
                  <a:pt x="17041" y="11857"/>
                </a:cubicBezTo>
                <a:cubicBezTo>
                  <a:pt x="17049" y="11882"/>
                  <a:pt x="17058" y="11906"/>
                  <a:pt x="17066" y="11931"/>
                </a:cubicBezTo>
                <a:cubicBezTo>
                  <a:pt x="17148" y="11910"/>
                  <a:pt x="17257" y="11806"/>
                  <a:pt x="17165" y="11708"/>
                </a:cubicBezTo>
                <a:cubicBezTo>
                  <a:pt x="17087" y="11624"/>
                  <a:pt x="17044" y="11828"/>
                  <a:pt x="17041" y="11857"/>
                </a:cubicBezTo>
                <a:cubicBezTo>
                  <a:pt x="17092" y="11857"/>
                  <a:pt x="17110" y="11855"/>
                  <a:pt x="17115" y="11807"/>
                </a:cubicBezTo>
              </a:path>
              <a:path w="2010" h="1663">
                <a:moveTo>
                  <a:pt x="17983" y="11038"/>
                </a:moveTo>
                <a:cubicBezTo>
                  <a:pt x="17889" y="11085"/>
                  <a:pt x="17692" y="11107"/>
                  <a:pt x="17636" y="11137"/>
                </a:cubicBezTo>
                <a:cubicBezTo>
                  <a:pt x="17533" y="11192"/>
                  <a:pt x="17595" y="11476"/>
                  <a:pt x="17611" y="11559"/>
                </a:cubicBezTo>
                <a:cubicBezTo>
                  <a:pt x="17657" y="11486"/>
                  <a:pt x="17829" y="11219"/>
                  <a:pt x="17959" y="11286"/>
                </a:cubicBezTo>
                <a:cubicBezTo>
                  <a:pt x="18144" y="11381"/>
                  <a:pt x="18190" y="11699"/>
                  <a:pt x="18033" y="11832"/>
                </a:cubicBezTo>
                <a:cubicBezTo>
                  <a:pt x="17877" y="11965"/>
                  <a:pt x="17659" y="11913"/>
                  <a:pt x="17487" y="11857"/>
                </a:cubicBezTo>
              </a:path>
              <a:path w="2010" h="1663">
                <a:moveTo>
                  <a:pt x="16619" y="11857"/>
                </a:moveTo>
                <a:cubicBezTo>
                  <a:pt x="16642" y="11993"/>
                  <a:pt x="16724" y="12116"/>
                  <a:pt x="16842" y="12204"/>
                </a:cubicBezTo>
                <a:cubicBezTo>
                  <a:pt x="17003" y="12323"/>
                  <a:pt x="17300" y="12292"/>
                  <a:pt x="17487" y="12278"/>
                </a:cubicBezTo>
                <a:cubicBezTo>
                  <a:pt x="17685" y="12263"/>
                  <a:pt x="17931" y="12204"/>
                  <a:pt x="18107" y="12105"/>
                </a:cubicBezTo>
                <a:cubicBezTo>
                  <a:pt x="18260" y="12019"/>
                  <a:pt x="18476" y="11842"/>
                  <a:pt x="18554" y="11683"/>
                </a:cubicBezTo>
                <a:cubicBezTo>
                  <a:pt x="18635" y="11519"/>
                  <a:pt x="18658" y="11258"/>
                  <a:pt x="18579" y="11088"/>
                </a:cubicBezTo>
                <a:cubicBezTo>
                  <a:pt x="18506" y="10931"/>
                  <a:pt x="18359" y="10785"/>
                  <a:pt x="18207" y="10716"/>
                </a:cubicBezTo>
                <a:cubicBezTo>
                  <a:pt x="18039" y="10640"/>
                  <a:pt x="17896" y="10598"/>
                  <a:pt x="17711" y="10616"/>
                </a:cubicBezTo>
                <a:cubicBezTo>
                  <a:pt x="17516" y="10635"/>
                  <a:pt x="17289" y="10667"/>
                  <a:pt x="17115" y="10765"/>
                </a:cubicBezTo>
                <a:cubicBezTo>
                  <a:pt x="16988" y="10836"/>
                  <a:pt x="16826" y="10968"/>
                  <a:pt x="16743" y="11088"/>
                </a:cubicBezTo>
                <a:cubicBezTo>
                  <a:pt x="16649" y="11224"/>
                  <a:pt x="16653" y="11427"/>
                  <a:pt x="16669" y="11584"/>
                </a:cubicBezTo>
                <a:cubicBezTo>
                  <a:pt x="16683" y="11726"/>
                  <a:pt x="16724" y="11930"/>
                  <a:pt x="16793" y="12055"/>
                </a:cubicBezTo>
                <a:cubicBezTo>
                  <a:pt x="16822" y="12108"/>
                  <a:pt x="16877" y="12181"/>
                  <a:pt x="16917" y="12229"/>
                </a:cubicBezTo>
                <a:cubicBezTo>
                  <a:pt x="16933" y="12245"/>
                  <a:pt x="16950" y="12262"/>
                  <a:pt x="16966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19160" y="5438880"/>
            <a:ext cx="716040" cy="544320"/>
          </a:xfrm>
          <a:custGeom>
            <a:avLst/>
            <a:gdLst/>
            <a:ahLst/>
            <a:rect l="l" t="t" r="r" b="b"/>
            <a:pathLst>
              <a:path w="1985" h="1514">
                <a:moveTo>
                  <a:pt x="6424" y="16446"/>
                </a:moveTo>
                <a:cubicBezTo>
                  <a:pt x="6416" y="16429"/>
                  <a:pt x="6408" y="16413"/>
                  <a:pt x="6400" y="16396"/>
                </a:cubicBezTo>
              </a:path>
              <a:path w="1985" h="1514">
                <a:moveTo>
                  <a:pt x="5482" y="16421"/>
                </a:moveTo>
                <a:cubicBezTo>
                  <a:pt x="5601" y="16429"/>
                  <a:pt x="5711" y="16460"/>
                  <a:pt x="5829" y="16470"/>
                </a:cubicBezTo>
                <a:cubicBezTo>
                  <a:pt x="5955" y="16481"/>
                  <a:pt x="6083" y="16478"/>
                  <a:pt x="6201" y="16470"/>
                </a:cubicBezTo>
                <a:cubicBezTo>
                  <a:pt x="6288" y="16464"/>
                  <a:pt x="6367" y="16468"/>
                  <a:pt x="6449" y="16446"/>
                </a:cubicBezTo>
                <a:cubicBezTo>
                  <a:pt x="6535" y="16423"/>
                  <a:pt x="6614" y="16415"/>
                  <a:pt x="6697" y="16396"/>
                </a:cubicBezTo>
                <a:cubicBezTo>
                  <a:pt x="6775" y="16378"/>
                  <a:pt x="6846" y="16366"/>
                  <a:pt x="6921" y="16346"/>
                </a:cubicBezTo>
                <a:cubicBezTo>
                  <a:pt x="6976" y="16331"/>
                  <a:pt x="7039" y="16336"/>
                  <a:pt x="7094" y="16321"/>
                </a:cubicBezTo>
                <a:cubicBezTo>
                  <a:pt x="7158" y="16303"/>
                  <a:pt x="7229" y="16225"/>
                  <a:pt x="7268" y="16173"/>
                </a:cubicBezTo>
                <a:cubicBezTo>
                  <a:pt x="7308" y="16121"/>
                  <a:pt x="7311" y="16009"/>
                  <a:pt x="7317" y="15949"/>
                </a:cubicBezTo>
                <a:cubicBezTo>
                  <a:pt x="7325" y="15872"/>
                  <a:pt x="7315" y="15772"/>
                  <a:pt x="7293" y="15701"/>
                </a:cubicBezTo>
                <a:cubicBezTo>
                  <a:pt x="7276" y="15645"/>
                  <a:pt x="7222" y="15582"/>
                  <a:pt x="7193" y="15528"/>
                </a:cubicBezTo>
                <a:cubicBezTo>
                  <a:pt x="7154" y="15457"/>
                  <a:pt x="7121" y="15393"/>
                  <a:pt x="7069" y="15329"/>
                </a:cubicBezTo>
                <a:cubicBezTo>
                  <a:pt x="7005" y="15251"/>
                  <a:pt x="6888" y="15236"/>
                  <a:pt x="6796" y="15205"/>
                </a:cubicBezTo>
                <a:cubicBezTo>
                  <a:pt x="6698" y="15172"/>
                  <a:pt x="6599" y="15172"/>
                  <a:pt x="6499" y="15156"/>
                </a:cubicBezTo>
                <a:cubicBezTo>
                  <a:pt x="6428" y="15145"/>
                  <a:pt x="6345" y="15148"/>
                  <a:pt x="6276" y="15131"/>
                </a:cubicBezTo>
                <a:cubicBezTo>
                  <a:pt x="6191" y="15111"/>
                  <a:pt x="6095" y="15089"/>
                  <a:pt x="6003" y="15106"/>
                </a:cubicBezTo>
                <a:cubicBezTo>
                  <a:pt x="5921" y="15121"/>
                  <a:pt x="5827" y="15161"/>
                  <a:pt x="5755" y="15205"/>
                </a:cubicBezTo>
                <a:cubicBezTo>
                  <a:pt x="5699" y="15239"/>
                  <a:pt x="5622" y="15276"/>
                  <a:pt x="5581" y="15329"/>
                </a:cubicBezTo>
                <a:cubicBezTo>
                  <a:pt x="5530" y="15395"/>
                  <a:pt x="5471" y="15445"/>
                  <a:pt x="5432" y="15528"/>
                </a:cubicBezTo>
                <a:cubicBezTo>
                  <a:pt x="5411" y="15574"/>
                  <a:pt x="5403" y="15628"/>
                  <a:pt x="5383" y="15677"/>
                </a:cubicBezTo>
                <a:cubicBezTo>
                  <a:pt x="5356" y="15744"/>
                  <a:pt x="5329" y="15853"/>
                  <a:pt x="5333" y="15925"/>
                </a:cubicBezTo>
                <a:cubicBezTo>
                  <a:pt x="5337" y="15992"/>
                  <a:pt x="5364" y="16043"/>
                  <a:pt x="5383" y="16098"/>
                </a:cubicBezTo>
                <a:cubicBezTo>
                  <a:pt x="5412" y="16183"/>
                  <a:pt x="5447" y="16254"/>
                  <a:pt x="5507" y="16321"/>
                </a:cubicBezTo>
                <a:cubicBezTo>
                  <a:pt x="5578" y="16401"/>
                  <a:pt x="5660" y="16446"/>
                  <a:pt x="5730" y="16520"/>
                </a:cubicBezTo>
                <a:cubicBezTo>
                  <a:pt x="5783" y="16576"/>
                  <a:pt x="5833" y="16595"/>
                  <a:pt x="5904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71760" y="6527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366" y="18132"/>
                </a:moveTo>
                <a:lnTo>
                  <a:pt x="4366" y="1813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27200" y="6357960"/>
            <a:ext cx="517680" cy="250920"/>
          </a:xfrm>
          <a:custGeom>
            <a:avLst/>
            <a:gdLst/>
            <a:ahLst/>
            <a:rect l="l" t="t" r="r" b="b"/>
            <a:pathLst>
              <a:path w="1439" h="695">
                <a:moveTo>
                  <a:pt x="7094" y="18207"/>
                </a:moveTo>
                <a:cubicBezTo>
                  <a:pt x="7046" y="18245"/>
                  <a:pt x="7033" y="18288"/>
                  <a:pt x="7020" y="18355"/>
                </a:cubicBezTo>
                <a:cubicBezTo>
                  <a:pt x="7143" y="18346"/>
                  <a:pt x="7212" y="18354"/>
                  <a:pt x="7243" y="18231"/>
                </a:cubicBezTo>
                <a:cubicBezTo>
                  <a:pt x="7143" y="18207"/>
                  <a:pt x="7107" y="18232"/>
                  <a:pt x="7119" y="18331"/>
                </a:cubicBezTo>
              </a:path>
              <a:path w="1439" h="695">
                <a:moveTo>
                  <a:pt x="7491" y="17884"/>
                </a:moveTo>
                <a:cubicBezTo>
                  <a:pt x="7463" y="17912"/>
                  <a:pt x="7454" y="17916"/>
                  <a:pt x="7466" y="17859"/>
                </a:cubicBezTo>
                <a:cubicBezTo>
                  <a:pt x="7495" y="17700"/>
                  <a:pt x="7620" y="17739"/>
                  <a:pt x="7789" y="17686"/>
                </a:cubicBezTo>
                <a:cubicBezTo>
                  <a:pt x="7805" y="17678"/>
                  <a:pt x="7822" y="17669"/>
                  <a:pt x="7838" y="17661"/>
                </a:cubicBezTo>
                <a:cubicBezTo>
                  <a:pt x="7852" y="17887"/>
                  <a:pt x="7753" y="18088"/>
                  <a:pt x="7689" y="18306"/>
                </a:cubicBezTo>
                <a:cubicBezTo>
                  <a:pt x="7689" y="18322"/>
                  <a:pt x="7689" y="18339"/>
                  <a:pt x="7689" y="18355"/>
                </a:cubicBezTo>
              </a:path>
              <a:path w="1439" h="695">
                <a:moveTo>
                  <a:pt x="8086" y="17686"/>
                </a:moveTo>
                <a:cubicBezTo>
                  <a:pt x="8192" y="17654"/>
                  <a:pt x="8343" y="17633"/>
                  <a:pt x="8409" y="17760"/>
                </a:cubicBezTo>
                <a:cubicBezTo>
                  <a:pt x="8509" y="17952"/>
                  <a:pt x="8305" y="18191"/>
                  <a:pt x="8136" y="18256"/>
                </a:cubicBezTo>
                <a:cubicBezTo>
                  <a:pt x="7994" y="18276"/>
                  <a:pt x="7967" y="18295"/>
                  <a:pt x="7888" y="18256"/>
                </a:cubicBezTo>
                <a:cubicBezTo>
                  <a:pt x="7973" y="18129"/>
                  <a:pt x="8068" y="18071"/>
                  <a:pt x="8235" y="18107"/>
                </a:cubicBezTo>
                <a:cubicBezTo>
                  <a:pt x="8326" y="18127"/>
                  <a:pt x="8404" y="18194"/>
                  <a:pt x="8458" y="18256"/>
                </a:cubicBezTo>
              </a:path>
              <a:path w="1439" h="695">
                <a:moveTo>
                  <a:pt x="7169" y="18281"/>
                </a:moveTo>
                <a:cubicBezTo>
                  <a:pt x="7169" y="18298"/>
                  <a:pt x="7169" y="18314"/>
                  <a:pt x="7169" y="183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71920" y="6215040"/>
            <a:ext cx="2473200" cy="588960"/>
          </a:xfrm>
          <a:custGeom>
            <a:avLst/>
            <a:gdLst/>
            <a:ahLst/>
            <a:rect l="l" t="t" r="r" b="b"/>
            <a:pathLst>
              <a:path w="6872" h="1638">
                <a:moveTo>
                  <a:pt x="10740" y="17611"/>
                </a:moveTo>
                <a:cubicBezTo>
                  <a:pt x="10845" y="17560"/>
                  <a:pt x="10883" y="17544"/>
                  <a:pt x="10964" y="17587"/>
                </a:cubicBezTo>
                <a:cubicBezTo>
                  <a:pt x="11023" y="17764"/>
                  <a:pt x="10906" y="18062"/>
                  <a:pt x="10616" y="18008"/>
                </a:cubicBezTo>
                <a:cubicBezTo>
                  <a:pt x="10583" y="17975"/>
                  <a:pt x="10550" y="17942"/>
                  <a:pt x="10517" y="17909"/>
                </a:cubicBezTo>
                <a:cubicBezTo>
                  <a:pt x="10651" y="17788"/>
                  <a:pt x="10784" y="17774"/>
                  <a:pt x="10939" y="17909"/>
                </a:cubicBezTo>
                <a:cubicBezTo>
                  <a:pt x="10947" y="17926"/>
                  <a:pt x="10956" y="17942"/>
                  <a:pt x="10964" y="17959"/>
                </a:cubicBezTo>
              </a:path>
              <a:path w="6872" h="1638">
                <a:moveTo>
                  <a:pt x="11212" y="17512"/>
                </a:moveTo>
                <a:lnTo>
                  <a:pt x="11212" y="17512"/>
                </a:lnTo>
              </a:path>
              <a:path w="6872" h="1638">
                <a:moveTo>
                  <a:pt x="11212" y="17537"/>
                </a:moveTo>
                <a:lnTo>
                  <a:pt x="11212" y="17537"/>
                </a:lnTo>
              </a:path>
              <a:path w="6872" h="1638">
                <a:moveTo>
                  <a:pt x="10046" y="17686"/>
                </a:moveTo>
                <a:cubicBezTo>
                  <a:pt x="10075" y="17585"/>
                  <a:pt x="10138" y="17611"/>
                  <a:pt x="10244" y="17611"/>
                </a:cubicBezTo>
                <a:cubicBezTo>
                  <a:pt x="10361" y="17611"/>
                  <a:pt x="10395" y="17613"/>
                  <a:pt x="10468" y="17587"/>
                </a:cubicBezTo>
                <a:cubicBezTo>
                  <a:pt x="10442" y="17702"/>
                  <a:pt x="10381" y="17816"/>
                  <a:pt x="10344" y="17934"/>
                </a:cubicBezTo>
                <a:cubicBezTo>
                  <a:pt x="10344" y="17942"/>
                  <a:pt x="10344" y="17951"/>
                  <a:pt x="10344" y="17959"/>
                </a:cubicBezTo>
              </a:path>
              <a:path w="6872" h="1638">
                <a:moveTo>
                  <a:pt x="9922" y="18182"/>
                </a:moveTo>
                <a:cubicBezTo>
                  <a:pt x="10200" y="18112"/>
                  <a:pt x="10481" y="18057"/>
                  <a:pt x="10765" y="18008"/>
                </a:cubicBezTo>
                <a:cubicBezTo>
                  <a:pt x="10929" y="17980"/>
                  <a:pt x="11096" y="17948"/>
                  <a:pt x="11261" y="17934"/>
                </a:cubicBezTo>
              </a:path>
              <a:path w="6872" h="1638">
                <a:moveTo>
                  <a:pt x="10096" y="18331"/>
                </a:moveTo>
                <a:cubicBezTo>
                  <a:pt x="10096" y="18506"/>
                  <a:pt x="10051" y="18614"/>
                  <a:pt x="9996" y="18777"/>
                </a:cubicBezTo>
              </a:path>
              <a:path w="6872" h="1638">
                <a:moveTo>
                  <a:pt x="10616" y="18281"/>
                </a:moveTo>
                <a:cubicBezTo>
                  <a:pt x="10521" y="18391"/>
                  <a:pt x="10492" y="18440"/>
                  <a:pt x="10468" y="18579"/>
                </a:cubicBezTo>
                <a:cubicBezTo>
                  <a:pt x="10555" y="18562"/>
                  <a:pt x="10808" y="18482"/>
                  <a:pt x="10666" y="18331"/>
                </a:cubicBezTo>
                <a:cubicBezTo>
                  <a:pt x="10593" y="18306"/>
                  <a:pt x="10569" y="18298"/>
                  <a:pt x="10517" y="18306"/>
                </a:cubicBezTo>
              </a:path>
              <a:path w="6872" h="1638">
                <a:moveTo>
                  <a:pt x="10964" y="18182"/>
                </a:moveTo>
                <a:cubicBezTo>
                  <a:pt x="10839" y="18277"/>
                  <a:pt x="10758" y="18320"/>
                  <a:pt x="10790" y="18479"/>
                </a:cubicBezTo>
                <a:cubicBezTo>
                  <a:pt x="10897" y="18494"/>
                  <a:pt x="11145" y="18476"/>
                  <a:pt x="11088" y="18281"/>
                </a:cubicBezTo>
                <a:cubicBezTo>
                  <a:pt x="11015" y="18208"/>
                  <a:pt x="10992" y="18184"/>
                  <a:pt x="10914" y="18207"/>
                </a:cubicBezTo>
              </a:path>
              <a:path w="6872" h="1638">
                <a:moveTo>
                  <a:pt x="11584" y="18083"/>
                </a:moveTo>
                <a:cubicBezTo>
                  <a:pt x="11642" y="18083"/>
                  <a:pt x="11699" y="18083"/>
                  <a:pt x="11757" y="18083"/>
                </a:cubicBezTo>
              </a:path>
              <a:path w="6872" h="1638">
                <a:moveTo>
                  <a:pt x="11633" y="17810"/>
                </a:moveTo>
                <a:lnTo>
                  <a:pt x="11633" y="17810"/>
                </a:lnTo>
              </a:path>
              <a:path w="6872" h="1638">
                <a:moveTo>
                  <a:pt x="11683" y="18281"/>
                </a:moveTo>
                <a:lnTo>
                  <a:pt x="11683" y="18281"/>
                </a:lnTo>
              </a:path>
              <a:path w="6872" h="1638">
                <a:moveTo>
                  <a:pt x="11956" y="17785"/>
                </a:moveTo>
                <a:cubicBezTo>
                  <a:pt x="12046" y="17805"/>
                  <a:pt x="12166" y="17842"/>
                  <a:pt x="12105" y="17959"/>
                </a:cubicBezTo>
                <a:cubicBezTo>
                  <a:pt x="12044" y="18040"/>
                  <a:pt x="12029" y="18052"/>
                  <a:pt x="12005" y="18107"/>
                </a:cubicBezTo>
                <a:cubicBezTo>
                  <a:pt x="12091" y="18094"/>
                  <a:pt x="12148" y="18073"/>
                  <a:pt x="12229" y="18033"/>
                </a:cubicBezTo>
              </a:path>
              <a:path w="6872" h="1638">
                <a:moveTo>
                  <a:pt x="11981" y="18306"/>
                </a:moveTo>
                <a:cubicBezTo>
                  <a:pt x="12067" y="18279"/>
                  <a:pt x="12139" y="18263"/>
                  <a:pt x="12229" y="18256"/>
                </a:cubicBezTo>
              </a:path>
              <a:path w="6872" h="1638">
                <a:moveTo>
                  <a:pt x="12005" y="18504"/>
                </a:moveTo>
                <a:cubicBezTo>
                  <a:pt x="12070" y="18482"/>
                  <a:pt x="12085" y="18474"/>
                  <a:pt x="12129" y="18479"/>
                </a:cubicBezTo>
                <a:cubicBezTo>
                  <a:pt x="12141" y="18537"/>
                  <a:pt x="12084" y="18589"/>
                  <a:pt x="12030" y="18653"/>
                </a:cubicBezTo>
                <a:cubicBezTo>
                  <a:pt x="12107" y="18638"/>
                  <a:pt x="12178" y="18608"/>
                  <a:pt x="12254" y="18579"/>
                </a:cubicBezTo>
              </a:path>
              <a:path w="6872" h="1638">
                <a:moveTo>
                  <a:pt x="12601" y="18083"/>
                </a:moveTo>
                <a:lnTo>
                  <a:pt x="12601" y="18083"/>
                </a:lnTo>
              </a:path>
              <a:path w="6872" h="1638">
                <a:moveTo>
                  <a:pt x="12477" y="18182"/>
                </a:moveTo>
                <a:cubicBezTo>
                  <a:pt x="12510" y="18165"/>
                  <a:pt x="12543" y="18149"/>
                  <a:pt x="12576" y="18132"/>
                </a:cubicBezTo>
              </a:path>
              <a:path w="6872" h="1638">
                <a:moveTo>
                  <a:pt x="12824" y="17711"/>
                </a:moveTo>
                <a:cubicBezTo>
                  <a:pt x="12909" y="17679"/>
                  <a:pt x="13142" y="17583"/>
                  <a:pt x="13047" y="17785"/>
                </a:cubicBezTo>
                <a:cubicBezTo>
                  <a:pt x="13003" y="17830"/>
                  <a:pt x="12993" y="17847"/>
                  <a:pt x="12948" y="17835"/>
                </a:cubicBezTo>
                <a:cubicBezTo>
                  <a:pt x="13063" y="17797"/>
                  <a:pt x="13180" y="17854"/>
                  <a:pt x="13022" y="17959"/>
                </a:cubicBezTo>
                <a:cubicBezTo>
                  <a:pt x="12912" y="18032"/>
                  <a:pt x="12867" y="18027"/>
                  <a:pt x="12799" y="17959"/>
                </a:cubicBezTo>
              </a:path>
              <a:path w="6872" h="1638">
                <a:moveTo>
                  <a:pt x="13345" y="17587"/>
                </a:moveTo>
                <a:cubicBezTo>
                  <a:pt x="13342" y="17637"/>
                  <a:pt x="13281" y="17870"/>
                  <a:pt x="13345" y="17909"/>
                </a:cubicBezTo>
                <a:cubicBezTo>
                  <a:pt x="13430" y="17961"/>
                  <a:pt x="13494" y="17811"/>
                  <a:pt x="13519" y="17760"/>
                </a:cubicBezTo>
                <a:cubicBezTo>
                  <a:pt x="13390" y="17789"/>
                  <a:pt x="13350" y="17838"/>
                  <a:pt x="13320" y="17959"/>
                </a:cubicBezTo>
              </a:path>
              <a:path w="6872" h="1638">
                <a:moveTo>
                  <a:pt x="12973" y="18157"/>
                </a:moveTo>
                <a:cubicBezTo>
                  <a:pt x="13147" y="18122"/>
                  <a:pt x="13320" y="18093"/>
                  <a:pt x="13494" y="18058"/>
                </a:cubicBezTo>
              </a:path>
              <a:path w="6872" h="1638">
                <a:moveTo>
                  <a:pt x="13072" y="18281"/>
                </a:moveTo>
                <a:cubicBezTo>
                  <a:pt x="12987" y="18298"/>
                  <a:pt x="12967" y="18328"/>
                  <a:pt x="12948" y="18405"/>
                </a:cubicBezTo>
                <a:cubicBezTo>
                  <a:pt x="13022" y="18457"/>
                  <a:pt x="13081" y="18476"/>
                  <a:pt x="13171" y="18504"/>
                </a:cubicBezTo>
                <a:cubicBezTo>
                  <a:pt x="13067" y="18599"/>
                  <a:pt x="13002" y="18624"/>
                  <a:pt x="12923" y="18504"/>
                </a:cubicBezTo>
              </a:path>
              <a:path w="6872" h="1638">
                <a:moveTo>
                  <a:pt x="13419" y="18355"/>
                </a:moveTo>
                <a:cubicBezTo>
                  <a:pt x="13312" y="18450"/>
                  <a:pt x="13273" y="18454"/>
                  <a:pt x="13246" y="18579"/>
                </a:cubicBezTo>
                <a:cubicBezTo>
                  <a:pt x="13313" y="18591"/>
                  <a:pt x="13599" y="18589"/>
                  <a:pt x="13519" y="18430"/>
                </a:cubicBezTo>
                <a:cubicBezTo>
                  <a:pt x="13494" y="18413"/>
                  <a:pt x="13469" y="18397"/>
                  <a:pt x="13444" y="18380"/>
                </a:cubicBezTo>
              </a:path>
              <a:path w="6872" h="1638">
                <a:moveTo>
                  <a:pt x="13791" y="18182"/>
                </a:moveTo>
                <a:cubicBezTo>
                  <a:pt x="13867" y="18174"/>
                  <a:pt x="13939" y="18163"/>
                  <a:pt x="14015" y="18157"/>
                </a:cubicBezTo>
              </a:path>
              <a:path w="6872" h="1638">
                <a:moveTo>
                  <a:pt x="13940" y="18033"/>
                </a:moveTo>
                <a:lnTo>
                  <a:pt x="13940" y="18033"/>
                </a:lnTo>
              </a:path>
              <a:path w="6872" h="1638">
                <a:moveTo>
                  <a:pt x="13965" y="18479"/>
                </a:moveTo>
                <a:lnTo>
                  <a:pt x="13965" y="18479"/>
                </a:lnTo>
              </a:path>
              <a:path w="6872" h="1638">
                <a:moveTo>
                  <a:pt x="14213" y="17810"/>
                </a:moveTo>
                <a:cubicBezTo>
                  <a:pt x="14314" y="17790"/>
                  <a:pt x="14334" y="17771"/>
                  <a:pt x="14387" y="17810"/>
                </a:cubicBezTo>
                <a:cubicBezTo>
                  <a:pt x="14347" y="17916"/>
                  <a:pt x="14315" y="17972"/>
                  <a:pt x="14238" y="18058"/>
                </a:cubicBezTo>
                <a:cubicBezTo>
                  <a:pt x="14339" y="18052"/>
                  <a:pt x="14414" y="18038"/>
                  <a:pt x="14511" y="18008"/>
                </a:cubicBezTo>
              </a:path>
              <a:path w="6872" h="1638">
                <a:moveTo>
                  <a:pt x="14461" y="18207"/>
                </a:moveTo>
                <a:cubicBezTo>
                  <a:pt x="14502" y="18199"/>
                  <a:pt x="14544" y="18190"/>
                  <a:pt x="14585" y="18182"/>
                </a:cubicBezTo>
              </a:path>
              <a:path w="6872" h="1638">
                <a:moveTo>
                  <a:pt x="14362" y="18455"/>
                </a:moveTo>
                <a:cubicBezTo>
                  <a:pt x="14448" y="18428"/>
                  <a:pt x="14521" y="18412"/>
                  <a:pt x="14610" y="18405"/>
                </a:cubicBezTo>
                <a:cubicBezTo>
                  <a:pt x="14555" y="18498"/>
                  <a:pt x="14331" y="18581"/>
                  <a:pt x="14412" y="18653"/>
                </a:cubicBezTo>
                <a:cubicBezTo>
                  <a:pt x="14495" y="18653"/>
                  <a:pt x="14529" y="18651"/>
                  <a:pt x="14585" y="18628"/>
                </a:cubicBezTo>
              </a:path>
              <a:path w="6872" h="1638">
                <a:moveTo>
                  <a:pt x="14908" y="18157"/>
                </a:moveTo>
                <a:cubicBezTo>
                  <a:pt x="14971" y="18125"/>
                  <a:pt x="15003" y="18113"/>
                  <a:pt x="15056" y="18107"/>
                </a:cubicBezTo>
              </a:path>
              <a:path w="6872" h="1638">
                <a:moveTo>
                  <a:pt x="14982" y="18281"/>
                </a:moveTo>
                <a:lnTo>
                  <a:pt x="14982" y="18281"/>
                </a:lnTo>
              </a:path>
              <a:path w="6872" h="1638">
                <a:moveTo>
                  <a:pt x="14932" y="18306"/>
                </a:moveTo>
                <a:cubicBezTo>
                  <a:pt x="15007" y="18299"/>
                  <a:pt x="15081" y="18288"/>
                  <a:pt x="15156" y="18281"/>
                </a:cubicBezTo>
              </a:path>
              <a:path w="6872" h="1638">
                <a:moveTo>
                  <a:pt x="15503" y="17711"/>
                </a:moveTo>
                <a:cubicBezTo>
                  <a:pt x="15537" y="17839"/>
                  <a:pt x="15553" y="17950"/>
                  <a:pt x="15553" y="18083"/>
                </a:cubicBezTo>
              </a:path>
              <a:path w="6872" h="1638">
                <a:moveTo>
                  <a:pt x="16197" y="17611"/>
                </a:moveTo>
                <a:cubicBezTo>
                  <a:pt x="16017" y="17621"/>
                  <a:pt x="15902" y="17619"/>
                  <a:pt x="15801" y="17760"/>
                </a:cubicBezTo>
                <a:cubicBezTo>
                  <a:pt x="15925" y="17839"/>
                  <a:pt x="16049" y="17905"/>
                  <a:pt x="16173" y="17983"/>
                </a:cubicBezTo>
                <a:cubicBezTo>
                  <a:pt x="16128" y="18016"/>
                  <a:pt x="15870" y="18166"/>
                  <a:pt x="15875" y="18008"/>
                </a:cubicBezTo>
                <a:cubicBezTo>
                  <a:pt x="15879" y="17889"/>
                  <a:pt x="16008" y="17777"/>
                  <a:pt x="16073" y="17686"/>
                </a:cubicBezTo>
              </a:path>
              <a:path w="6872" h="1638">
                <a:moveTo>
                  <a:pt x="15329" y="18331"/>
                </a:moveTo>
                <a:cubicBezTo>
                  <a:pt x="15565" y="18246"/>
                  <a:pt x="15802" y="18222"/>
                  <a:pt x="16049" y="18182"/>
                </a:cubicBezTo>
                <a:cubicBezTo>
                  <a:pt x="16140" y="18164"/>
                  <a:pt x="16147" y="18155"/>
                  <a:pt x="16197" y="18157"/>
                </a:cubicBezTo>
              </a:path>
              <a:path w="6872" h="1638">
                <a:moveTo>
                  <a:pt x="15553" y="18479"/>
                </a:moveTo>
                <a:cubicBezTo>
                  <a:pt x="15715" y="18499"/>
                  <a:pt x="15874" y="18551"/>
                  <a:pt x="15751" y="18752"/>
                </a:cubicBezTo>
                <a:cubicBezTo>
                  <a:pt x="15667" y="18837"/>
                  <a:pt x="15653" y="18864"/>
                  <a:pt x="15577" y="18876"/>
                </a:cubicBezTo>
                <a:cubicBezTo>
                  <a:pt x="15519" y="18857"/>
                  <a:pt x="15497" y="18695"/>
                  <a:pt x="15577" y="18678"/>
                </a:cubicBezTo>
                <a:cubicBezTo>
                  <a:pt x="15681" y="18656"/>
                  <a:pt x="15799" y="18758"/>
                  <a:pt x="15850" y="18827"/>
                </a:cubicBezTo>
              </a:path>
              <a:path w="6872" h="1638">
                <a:moveTo>
                  <a:pt x="16297" y="18380"/>
                </a:moveTo>
                <a:cubicBezTo>
                  <a:pt x="16193" y="18406"/>
                  <a:pt x="16085" y="18406"/>
                  <a:pt x="16024" y="18479"/>
                </a:cubicBezTo>
                <a:cubicBezTo>
                  <a:pt x="16061" y="18610"/>
                  <a:pt x="16136" y="18543"/>
                  <a:pt x="16247" y="18554"/>
                </a:cubicBezTo>
                <a:cubicBezTo>
                  <a:pt x="16396" y="18569"/>
                  <a:pt x="16403" y="18769"/>
                  <a:pt x="16272" y="18827"/>
                </a:cubicBezTo>
                <a:cubicBezTo>
                  <a:pt x="16214" y="18835"/>
                  <a:pt x="16156" y="18844"/>
                  <a:pt x="16098" y="18852"/>
                </a:cubicBezTo>
              </a:path>
              <a:path w="6872" h="1638">
                <a:moveTo>
                  <a:pt x="15949" y="17363"/>
                </a:moveTo>
                <a:cubicBezTo>
                  <a:pt x="15812" y="17306"/>
                  <a:pt x="15731" y="17267"/>
                  <a:pt x="15577" y="17264"/>
                </a:cubicBezTo>
                <a:cubicBezTo>
                  <a:pt x="15345" y="17259"/>
                  <a:pt x="15153" y="17310"/>
                  <a:pt x="14957" y="17438"/>
                </a:cubicBezTo>
                <a:cubicBezTo>
                  <a:pt x="14746" y="17576"/>
                  <a:pt x="14680" y="17748"/>
                  <a:pt x="14635" y="17983"/>
                </a:cubicBezTo>
                <a:cubicBezTo>
                  <a:pt x="14596" y="18182"/>
                  <a:pt x="14605" y="18349"/>
                  <a:pt x="14709" y="18529"/>
                </a:cubicBezTo>
                <a:cubicBezTo>
                  <a:pt x="14771" y="18637"/>
                  <a:pt x="14920" y="18841"/>
                  <a:pt x="15032" y="18876"/>
                </a:cubicBezTo>
                <a:cubicBezTo>
                  <a:pt x="15174" y="18920"/>
                  <a:pt x="15332" y="18901"/>
                  <a:pt x="15478" y="18901"/>
                </a:cubicBezTo>
                <a:cubicBezTo>
                  <a:pt x="15585" y="18901"/>
                  <a:pt x="15627" y="18901"/>
                  <a:pt x="15701" y="18901"/>
                </a:cubicBezTo>
              </a:path>
              <a:path w="6872" h="1638">
                <a:moveTo>
                  <a:pt x="15825" y="17338"/>
                </a:moveTo>
                <a:cubicBezTo>
                  <a:pt x="16017" y="17373"/>
                  <a:pt x="16141" y="17445"/>
                  <a:pt x="16297" y="17562"/>
                </a:cubicBezTo>
                <a:cubicBezTo>
                  <a:pt x="16491" y="17708"/>
                  <a:pt x="16683" y="17926"/>
                  <a:pt x="16768" y="18157"/>
                </a:cubicBezTo>
                <a:cubicBezTo>
                  <a:pt x="16843" y="18362"/>
                  <a:pt x="16778" y="18512"/>
                  <a:pt x="16669" y="18678"/>
                </a:cubicBezTo>
                <a:cubicBezTo>
                  <a:pt x="16525" y="18897"/>
                  <a:pt x="16443" y="18901"/>
                  <a:pt x="16197" y="189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0360" y="5456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000" y="15156"/>
                </a:moveTo>
                <a:lnTo>
                  <a:pt x="19000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91640" y="5241960"/>
            <a:ext cx="144360" cy="303120"/>
          </a:xfrm>
          <a:custGeom>
            <a:avLst/>
            <a:gdLst/>
            <a:ahLst/>
            <a:rect l="l" t="t" r="r" b="b"/>
            <a:pathLst>
              <a:path w="398" h="845">
                <a:moveTo>
                  <a:pt x="22225" y="14560"/>
                </a:moveTo>
                <a:cubicBezTo>
                  <a:pt x="22200" y="14659"/>
                  <a:pt x="22192" y="14691"/>
                  <a:pt x="22200" y="14759"/>
                </a:cubicBezTo>
                <a:cubicBezTo>
                  <a:pt x="22226" y="14592"/>
                  <a:pt x="22263" y="14638"/>
                  <a:pt x="22423" y="14610"/>
                </a:cubicBezTo>
                <a:cubicBezTo>
                  <a:pt x="22515" y="14587"/>
                  <a:pt x="22540" y="14581"/>
                  <a:pt x="22597" y="14560"/>
                </a:cubicBezTo>
                <a:cubicBezTo>
                  <a:pt x="22558" y="14863"/>
                  <a:pt x="22431" y="15096"/>
                  <a:pt x="22324" y="15379"/>
                </a:cubicBezTo>
                <a:cubicBezTo>
                  <a:pt x="22324" y="15387"/>
                  <a:pt x="22324" y="15396"/>
                  <a:pt x="22324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78840" y="5187960"/>
            <a:ext cx="179280" cy="304920"/>
          </a:xfrm>
          <a:custGeom>
            <a:avLst/>
            <a:gdLst/>
            <a:ahLst/>
            <a:rect l="l" t="t" r="r" b="b"/>
            <a:pathLst>
              <a:path w="497" h="844">
                <a:moveTo>
                  <a:pt x="22870" y="14511"/>
                </a:moveTo>
                <a:cubicBezTo>
                  <a:pt x="22968" y="14413"/>
                  <a:pt x="23012" y="14431"/>
                  <a:pt x="23143" y="14412"/>
                </a:cubicBezTo>
                <a:cubicBezTo>
                  <a:pt x="23208" y="14636"/>
                  <a:pt x="23142" y="14703"/>
                  <a:pt x="22944" y="14833"/>
                </a:cubicBezTo>
                <a:cubicBezTo>
                  <a:pt x="22928" y="14841"/>
                  <a:pt x="22911" y="14850"/>
                  <a:pt x="22895" y="14858"/>
                </a:cubicBezTo>
                <a:cubicBezTo>
                  <a:pt x="23004" y="14780"/>
                  <a:pt x="23208" y="14714"/>
                  <a:pt x="23217" y="14932"/>
                </a:cubicBezTo>
                <a:cubicBezTo>
                  <a:pt x="23229" y="15242"/>
                  <a:pt x="22933" y="15249"/>
                  <a:pt x="22721" y="152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97880" y="5589720"/>
            <a:ext cx="749160" cy="71280"/>
          </a:xfrm>
          <a:custGeom>
            <a:avLst/>
            <a:gdLst/>
            <a:ahLst/>
            <a:rect l="l" t="t" r="r" b="b"/>
            <a:pathLst>
              <a:path w="2084" h="199">
                <a:moveTo>
                  <a:pt x="21382" y="15726"/>
                </a:moveTo>
                <a:cubicBezTo>
                  <a:pt x="21835" y="15635"/>
                  <a:pt x="22286" y="15607"/>
                  <a:pt x="22746" y="15577"/>
                </a:cubicBezTo>
                <a:cubicBezTo>
                  <a:pt x="22986" y="15561"/>
                  <a:pt x="23225" y="15539"/>
                  <a:pt x="23465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13800" y="5705640"/>
            <a:ext cx="108000" cy="215640"/>
          </a:xfrm>
          <a:custGeom>
            <a:avLst/>
            <a:gdLst/>
            <a:ahLst/>
            <a:rect l="l" t="t" r="r" b="b"/>
            <a:pathLst>
              <a:path w="299" h="597">
                <a:moveTo>
                  <a:pt x="22002" y="15850"/>
                </a:moveTo>
                <a:cubicBezTo>
                  <a:pt x="21954" y="16042"/>
                  <a:pt x="21853" y="16177"/>
                  <a:pt x="21754" y="16346"/>
                </a:cubicBezTo>
                <a:cubicBezTo>
                  <a:pt x="21737" y="16379"/>
                  <a:pt x="21721" y="16413"/>
                  <a:pt x="21704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74000" y="5688000"/>
            <a:ext cx="169920" cy="187200"/>
          </a:xfrm>
          <a:custGeom>
            <a:avLst/>
            <a:gdLst/>
            <a:ahLst/>
            <a:rect l="l" t="t" r="r" b="b"/>
            <a:pathLst>
              <a:path w="472" h="521">
                <a:moveTo>
                  <a:pt x="22547" y="15801"/>
                </a:moveTo>
                <a:cubicBezTo>
                  <a:pt x="22444" y="15864"/>
                  <a:pt x="22247" y="16064"/>
                  <a:pt x="22175" y="16173"/>
                </a:cubicBezTo>
                <a:cubicBezTo>
                  <a:pt x="22167" y="16206"/>
                  <a:pt x="22159" y="16239"/>
                  <a:pt x="22151" y="16272"/>
                </a:cubicBezTo>
                <a:cubicBezTo>
                  <a:pt x="22310" y="16378"/>
                  <a:pt x="22503" y="16260"/>
                  <a:pt x="22597" y="16073"/>
                </a:cubicBezTo>
                <a:cubicBezTo>
                  <a:pt x="22682" y="15904"/>
                  <a:pt x="22587" y="15891"/>
                  <a:pt x="22473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15200" y="5680080"/>
            <a:ext cx="231840" cy="169920"/>
          </a:xfrm>
          <a:custGeom>
            <a:avLst/>
            <a:gdLst/>
            <a:ahLst/>
            <a:rect l="l" t="t" r="r" b="b"/>
            <a:pathLst>
              <a:path w="646" h="472">
                <a:moveTo>
                  <a:pt x="23118" y="15850"/>
                </a:moveTo>
                <a:cubicBezTo>
                  <a:pt x="22962" y="15824"/>
                  <a:pt x="22964" y="15822"/>
                  <a:pt x="22870" y="15974"/>
                </a:cubicBezTo>
                <a:cubicBezTo>
                  <a:pt x="22776" y="16128"/>
                  <a:pt x="22883" y="16262"/>
                  <a:pt x="23068" y="16247"/>
                </a:cubicBezTo>
                <a:cubicBezTo>
                  <a:pt x="23293" y="16229"/>
                  <a:pt x="23422" y="16032"/>
                  <a:pt x="23465" y="15850"/>
                </a:cubicBezTo>
                <a:cubicBezTo>
                  <a:pt x="23303" y="15791"/>
                  <a:pt x="23216" y="15787"/>
                  <a:pt x="23044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write a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decimal as a frac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Just write the digits in your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numerator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and the place value of the last digit as your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denominator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2120" y="3276720"/>
          <a:ext cx="1720800" cy="9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76720"/>
                    <a:ext cx="17208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200400"/>
          <a:ext cx="228600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200400"/>
                    <a:ext cx="2286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429000" y="4191120"/>
          <a:ext cx="1644480" cy="11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191120"/>
                    <a:ext cx="16444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598760" y="3276720"/>
            <a:ext cx="679320" cy="312480"/>
          </a:xfrm>
          <a:custGeom>
            <a:avLst/>
            <a:gdLst/>
            <a:ahLst/>
            <a:rect l="l" t="t" r="r" b="b"/>
            <a:pathLst>
              <a:path w="1886" h="869">
                <a:moveTo>
                  <a:pt x="4564" y="9823"/>
                </a:moveTo>
                <a:cubicBezTo>
                  <a:pt x="4511" y="9927"/>
                  <a:pt x="4478" y="10022"/>
                  <a:pt x="4614" y="9922"/>
                </a:cubicBezTo>
                <a:cubicBezTo>
                  <a:pt x="4545" y="9863"/>
                  <a:pt x="4537" y="9868"/>
                  <a:pt x="4440" y="9897"/>
                </a:cubicBezTo>
              </a:path>
              <a:path w="1886" h="869">
                <a:moveTo>
                  <a:pt x="5135" y="9351"/>
                </a:moveTo>
                <a:cubicBezTo>
                  <a:pt x="5118" y="9410"/>
                  <a:pt x="5097" y="9465"/>
                  <a:pt x="5085" y="9525"/>
                </a:cubicBezTo>
                <a:cubicBezTo>
                  <a:pt x="5255" y="9535"/>
                  <a:pt x="5456" y="9498"/>
                  <a:pt x="5581" y="9351"/>
                </a:cubicBezTo>
                <a:cubicBezTo>
                  <a:pt x="5589" y="9326"/>
                  <a:pt x="5598" y="9302"/>
                  <a:pt x="5606" y="9277"/>
                </a:cubicBezTo>
              </a:path>
              <a:path w="1886" h="869">
                <a:moveTo>
                  <a:pt x="5482" y="9103"/>
                </a:moveTo>
                <a:cubicBezTo>
                  <a:pt x="5482" y="9312"/>
                  <a:pt x="5469" y="9515"/>
                  <a:pt x="5457" y="9723"/>
                </a:cubicBezTo>
                <a:cubicBezTo>
                  <a:pt x="5457" y="9748"/>
                  <a:pt x="5457" y="9773"/>
                  <a:pt x="5457" y="9798"/>
                </a:cubicBezTo>
              </a:path>
              <a:path w="1886" h="869">
                <a:moveTo>
                  <a:pt x="5829" y="9153"/>
                </a:moveTo>
                <a:cubicBezTo>
                  <a:pt x="5795" y="9387"/>
                  <a:pt x="5773" y="9588"/>
                  <a:pt x="5804" y="9823"/>
                </a:cubicBezTo>
                <a:cubicBezTo>
                  <a:pt x="6075" y="9879"/>
                  <a:pt x="6159" y="9768"/>
                  <a:pt x="6325" y="9550"/>
                </a:cubicBezTo>
                <a:cubicBezTo>
                  <a:pt x="6241" y="9451"/>
                  <a:pt x="6117" y="9480"/>
                  <a:pt x="6052" y="9624"/>
                </a:cubicBezTo>
                <a:cubicBezTo>
                  <a:pt x="6044" y="9674"/>
                  <a:pt x="6036" y="9723"/>
                  <a:pt x="6028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89160" y="3456000"/>
            <a:ext cx="9864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8582" y="9599"/>
                </a:moveTo>
                <a:cubicBezTo>
                  <a:pt x="8698" y="9599"/>
                  <a:pt x="8731" y="9599"/>
                  <a:pt x="8806" y="9599"/>
                </a:cubicBezTo>
              </a:path>
              <a:path w="274" h="249">
                <a:moveTo>
                  <a:pt x="8607" y="9847"/>
                </a:moveTo>
                <a:cubicBezTo>
                  <a:pt x="8731" y="9823"/>
                  <a:pt x="8772" y="9815"/>
                  <a:pt x="8855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38360" y="3081240"/>
            <a:ext cx="2125800" cy="776520"/>
          </a:xfrm>
          <a:custGeom>
            <a:avLst/>
            <a:gdLst/>
            <a:ahLst/>
            <a:rect l="l" t="t" r="r" b="b"/>
            <a:pathLst>
              <a:path w="5904" h="2159">
                <a:moveTo>
                  <a:pt x="9823" y="9203"/>
                </a:moveTo>
                <a:cubicBezTo>
                  <a:pt x="9779" y="9291"/>
                  <a:pt x="9762" y="9312"/>
                  <a:pt x="9773" y="9376"/>
                </a:cubicBezTo>
                <a:cubicBezTo>
                  <a:pt x="9927" y="9354"/>
                  <a:pt x="10029" y="9312"/>
                  <a:pt x="10170" y="9252"/>
                </a:cubicBezTo>
              </a:path>
              <a:path w="5904" h="2159">
                <a:moveTo>
                  <a:pt x="10195" y="8905"/>
                </a:moveTo>
                <a:cubicBezTo>
                  <a:pt x="10161" y="9132"/>
                  <a:pt x="10127" y="9352"/>
                  <a:pt x="10071" y="9575"/>
                </a:cubicBezTo>
              </a:path>
              <a:path w="5904" h="2159">
                <a:moveTo>
                  <a:pt x="10542" y="8954"/>
                </a:moveTo>
                <a:cubicBezTo>
                  <a:pt x="10438" y="9181"/>
                  <a:pt x="10393" y="9332"/>
                  <a:pt x="10393" y="9575"/>
                </a:cubicBezTo>
                <a:cubicBezTo>
                  <a:pt x="10542" y="9612"/>
                  <a:pt x="10855" y="9566"/>
                  <a:pt x="10790" y="9302"/>
                </a:cubicBezTo>
                <a:cubicBezTo>
                  <a:pt x="10761" y="9183"/>
                  <a:pt x="10607" y="9395"/>
                  <a:pt x="10542" y="9500"/>
                </a:cubicBezTo>
              </a:path>
              <a:path w="5904" h="2159">
                <a:moveTo>
                  <a:pt x="9575" y="9872"/>
                </a:moveTo>
                <a:cubicBezTo>
                  <a:pt x="9990" y="9808"/>
                  <a:pt x="10397" y="9718"/>
                  <a:pt x="10815" y="9748"/>
                </a:cubicBezTo>
              </a:path>
              <a:path w="5904" h="2159">
                <a:moveTo>
                  <a:pt x="9649" y="10195"/>
                </a:moveTo>
                <a:cubicBezTo>
                  <a:pt x="9605" y="10370"/>
                  <a:pt x="9597" y="10414"/>
                  <a:pt x="9550" y="10517"/>
                </a:cubicBezTo>
              </a:path>
              <a:path w="5904" h="2159">
                <a:moveTo>
                  <a:pt x="9996" y="10071"/>
                </a:moveTo>
                <a:cubicBezTo>
                  <a:pt x="9917" y="10222"/>
                  <a:pt x="9888" y="10279"/>
                  <a:pt x="9897" y="10443"/>
                </a:cubicBezTo>
                <a:cubicBezTo>
                  <a:pt x="10129" y="10365"/>
                  <a:pt x="10210" y="10335"/>
                  <a:pt x="10170" y="10096"/>
                </a:cubicBezTo>
                <a:cubicBezTo>
                  <a:pt x="10011" y="10069"/>
                  <a:pt x="9952" y="10064"/>
                  <a:pt x="9847" y="10120"/>
                </a:cubicBezTo>
              </a:path>
              <a:path w="5904" h="2159">
                <a:moveTo>
                  <a:pt x="10418" y="10120"/>
                </a:moveTo>
                <a:cubicBezTo>
                  <a:pt x="10346" y="10285"/>
                  <a:pt x="10310" y="10368"/>
                  <a:pt x="10319" y="10542"/>
                </a:cubicBezTo>
                <a:cubicBezTo>
                  <a:pt x="10432" y="10507"/>
                  <a:pt x="11015" y="10286"/>
                  <a:pt x="10740" y="10071"/>
                </a:cubicBezTo>
                <a:cubicBezTo>
                  <a:pt x="10682" y="10063"/>
                  <a:pt x="10625" y="10054"/>
                  <a:pt x="10567" y="10046"/>
                </a:cubicBezTo>
              </a:path>
              <a:path w="5904" h="2159">
                <a:moveTo>
                  <a:pt x="11311" y="9773"/>
                </a:moveTo>
                <a:cubicBezTo>
                  <a:pt x="11435" y="9773"/>
                  <a:pt x="11559" y="9773"/>
                  <a:pt x="11683" y="9773"/>
                </a:cubicBezTo>
              </a:path>
              <a:path w="5904" h="2159">
                <a:moveTo>
                  <a:pt x="11435" y="9401"/>
                </a:moveTo>
                <a:cubicBezTo>
                  <a:pt x="11435" y="9434"/>
                  <a:pt x="11435" y="9467"/>
                  <a:pt x="11435" y="9500"/>
                </a:cubicBezTo>
              </a:path>
              <a:path w="5904" h="2159">
                <a:moveTo>
                  <a:pt x="11410" y="10096"/>
                </a:moveTo>
                <a:lnTo>
                  <a:pt x="11410" y="10096"/>
                </a:lnTo>
              </a:path>
              <a:path w="5904" h="2159">
                <a:moveTo>
                  <a:pt x="12129" y="9376"/>
                </a:moveTo>
                <a:cubicBezTo>
                  <a:pt x="12225" y="9329"/>
                  <a:pt x="12255" y="9312"/>
                  <a:pt x="12328" y="9327"/>
                </a:cubicBezTo>
                <a:cubicBezTo>
                  <a:pt x="12303" y="9397"/>
                  <a:pt x="11980" y="9694"/>
                  <a:pt x="11981" y="9699"/>
                </a:cubicBezTo>
                <a:cubicBezTo>
                  <a:pt x="12106" y="9668"/>
                  <a:pt x="12164" y="9652"/>
                  <a:pt x="12254" y="9624"/>
                </a:cubicBezTo>
              </a:path>
              <a:path w="5904" h="2159">
                <a:moveTo>
                  <a:pt x="11931" y="9847"/>
                </a:moveTo>
                <a:cubicBezTo>
                  <a:pt x="12112" y="9847"/>
                  <a:pt x="12274" y="9832"/>
                  <a:pt x="12452" y="9798"/>
                </a:cubicBezTo>
              </a:path>
              <a:path w="5904" h="2159">
                <a:moveTo>
                  <a:pt x="12055" y="10120"/>
                </a:moveTo>
                <a:cubicBezTo>
                  <a:pt x="12283" y="10064"/>
                  <a:pt x="12306" y="10101"/>
                  <a:pt x="12105" y="10269"/>
                </a:cubicBezTo>
                <a:cubicBezTo>
                  <a:pt x="11926" y="10418"/>
                  <a:pt x="12244" y="10305"/>
                  <a:pt x="12303" y="10294"/>
                </a:cubicBezTo>
              </a:path>
              <a:path w="5904" h="2159">
                <a:moveTo>
                  <a:pt x="12923" y="9599"/>
                </a:moveTo>
                <a:cubicBezTo>
                  <a:pt x="12964" y="9599"/>
                  <a:pt x="13006" y="9599"/>
                  <a:pt x="13047" y="9599"/>
                </a:cubicBezTo>
              </a:path>
              <a:path w="5904" h="2159">
                <a:moveTo>
                  <a:pt x="12948" y="9798"/>
                </a:moveTo>
                <a:cubicBezTo>
                  <a:pt x="12989" y="9790"/>
                  <a:pt x="13031" y="9781"/>
                  <a:pt x="13072" y="9773"/>
                </a:cubicBezTo>
              </a:path>
              <a:path w="5904" h="2159">
                <a:moveTo>
                  <a:pt x="13915" y="9029"/>
                </a:moveTo>
                <a:cubicBezTo>
                  <a:pt x="14095" y="9055"/>
                  <a:pt x="14158" y="9067"/>
                  <a:pt x="14238" y="9178"/>
                </a:cubicBezTo>
                <a:cubicBezTo>
                  <a:pt x="14094" y="9440"/>
                  <a:pt x="13963" y="9463"/>
                  <a:pt x="13667" y="9401"/>
                </a:cubicBezTo>
                <a:cubicBezTo>
                  <a:pt x="13917" y="9298"/>
                  <a:pt x="14021" y="9361"/>
                  <a:pt x="14263" y="9475"/>
                </a:cubicBezTo>
              </a:path>
              <a:path w="5904" h="2159">
                <a:moveTo>
                  <a:pt x="14536" y="9029"/>
                </a:moveTo>
                <a:cubicBezTo>
                  <a:pt x="14688" y="9013"/>
                  <a:pt x="14897" y="9029"/>
                  <a:pt x="14660" y="9203"/>
                </a:cubicBezTo>
                <a:cubicBezTo>
                  <a:pt x="14635" y="9211"/>
                  <a:pt x="14610" y="9219"/>
                  <a:pt x="14585" y="9227"/>
                </a:cubicBezTo>
                <a:cubicBezTo>
                  <a:pt x="14719" y="9094"/>
                  <a:pt x="14807" y="9212"/>
                  <a:pt x="14858" y="9376"/>
                </a:cubicBezTo>
                <a:cubicBezTo>
                  <a:pt x="14712" y="9464"/>
                  <a:pt x="14644" y="9489"/>
                  <a:pt x="14511" y="9451"/>
                </a:cubicBezTo>
              </a:path>
              <a:path w="5904" h="2159">
                <a:moveTo>
                  <a:pt x="13742" y="9624"/>
                </a:moveTo>
                <a:cubicBezTo>
                  <a:pt x="14107" y="9595"/>
                  <a:pt x="14467" y="9575"/>
                  <a:pt x="14833" y="9575"/>
                </a:cubicBezTo>
              </a:path>
              <a:path w="5904" h="2159">
                <a:moveTo>
                  <a:pt x="13965" y="9922"/>
                </a:moveTo>
                <a:cubicBezTo>
                  <a:pt x="13894" y="9890"/>
                  <a:pt x="13785" y="9844"/>
                  <a:pt x="13717" y="9922"/>
                </a:cubicBezTo>
                <a:cubicBezTo>
                  <a:pt x="13672" y="10011"/>
                  <a:pt x="13658" y="10034"/>
                  <a:pt x="13643" y="10096"/>
                </a:cubicBezTo>
                <a:cubicBezTo>
                  <a:pt x="13821" y="10096"/>
                  <a:pt x="13920" y="10098"/>
                  <a:pt x="14064" y="10195"/>
                </a:cubicBezTo>
                <a:cubicBezTo>
                  <a:pt x="13961" y="10278"/>
                  <a:pt x="13620" y="10500"/>
                  <a:pt x="13568" y="10220"/>
                </a:cubicBezTo>
                <a:cubicBezTo>
                  <a:pt x="13585" y="10179"/>
                  <a:pt x="13601" y="10137"/>
                  <a:pt x="13618" y="10096"/>
                </a:cubicBezTo>
              </a:path>
              <a:path w="5904" h="2159">
                <a:moveTo>
                  <a:pt x="14362" y="9922"/>
                </a:moveTo>
                <a:cubicBezTo>
                  <a:pt x="14284" y="10079"/>
                  <a:pt x="14238" y="10156"/>
                  <a:pt x="14238" y="10319"/>
                </a:cubicBezTo>
                <a:cubicBezTo>
                  <a:pt x="14365" y="10326"/>
                  <a:pt x="14777" y="10271"/>
                  <a:pt x="14585" y="10021"/>
                </a:cubicBezTo>
                <a:cubicBezTo>
                  <a:pt x="14535" y="9996"/>
                  <a:pt x="14486" y="9972"/>
                  <a:pt x="14436" y="9947"/>
                </a:cubicBezTo>
              </a:path>
              <a:path w="5904" h="2159">
                <a:moveTo>
                  <a:pt x="13345" y="10269"/>
                </a:moveTo>
                <a:cubicBezTo>
                  <a:pt x="13445" y="10478"/>
                  <a:pt x="13597" y="10634"/>
                  <a:pt x="13841" y="10691"/>
                </a:cubicBezTo>
                <a:cubicBezTo>
                  <a:pt x="14330" y="10804"/>
                  <a:pt x="14835" y="10556"/>
                  <a:pt x="15156" y="10195"/>
                </a:cubicBezTo>
                <a:cubicBezTo>
                  <a:pt x="15390" y="9931"/>
                  <a:pt x="15486" y="9646"/>
                  <a:pt x="15429" y="9302"/>
                </a:cubicBezTo>
                <a:cubicBezTo>
                  <a:pt x="15382" y="9014"/>
                  <a:pt x="15133" y="8778"/>
                  <a:pt x="14858" y="8682"/>
                </a:cubicBezTo>
                <a:cubicBezTo>
                  <a:pt x="14559" y="8578"/>
                  <a:pt x="14149" y="8506"/>
                  <a:pt x="13841" y="8607"/>
                </a:cubicBezTo>
                <a:cubicBezTo>
                  <a:pt x="13547" y="8704"/>
                  <a:pt x="13305" y="8855"/>
                  <a:pt x="13246" y="9178"/>
                </a:cubicBezTo>
                <a:cubicBezTo>
                  <a:pt x="13188" y="9492"/>
                  <a:pt x="13139" y="10063"/>
                  <a:pt x="13395" y="10319"/>
                </a:cubicBezTo>
                <a:cubicBezTo>
                  <a:pt x="13587" y="10415"/>
                  <a:pt x="13645" y="10447"/>
                  <a:pt x="13791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67040" y="3990960"/>
            <a:ext cx="1473120" cy="947880"/>
          </a:xfrm>
          <a:custGeom>
            <a:avLst/>
            <a:gdLst/>
            <a:ahLst/>
            <a:rect l="l" t="t" r="r" b="b"/>
            <a:pathLst>
              <a:path w="4094" h="2630">
                <a:moveTo>
                  <a:pt x="8012" y="12328"/>
                </a:moveTo>
                <a:cubicBezTo>
                  <a:pt x="8070" y="12336"/>
                  <a:pt x="8128" y="12345"/>
                  <a:pt x="8186" y="12353"/>
                </a:cubicBezTo>
              </a:path>
              <a:path w="4094" h="2630">
                <a:moveTo>
                  <a:pt x="7962" y="12576"/>
                </a:moveTo>
                <a:cubicBezTo>
                  <a:pt x="8053" y="12559"/>
                  <a:pt x="8144" y="12543"/>
                  <a:pt x="8235" y="12526"/>
                </a:cubicBezTo>
              </a:path>
              <a:path w="4094" h="2630">
                <a:moveTo>
                  <a:pt x="9823" y="11956"/>
                </a:moveTo>
                <a:cubicBezTo>
                  <a:pt x="10049" y="11969"/>
                  <a:pt x="10265" y="11956"/>
                  <a:pt x="10492" y="11956"/>
                </a:cubicBezTo>
                <a:cubicBezTo>
                  <a:pt x="10385" y="12095"/>
                  <a:pt x="10297" y="12222"/>
                  <a:pt x="10220" y="12378"/>
                </a:cubicBezTo>
              </a:path>
              <a:path w="4094" h="2630">
                <a:moveTo>
                  <a:pt x="9054" y="12526"/>
                </a:moveTo>
                <a:cubicBezTo>
                  <a:pt x="9623" y="12503"/>
                  <a:pt x="10173" y="12574"/>
                  <a:pt x="10740" y="12626"/>
                </a:cubicBezTo>
                <a:cubicBezTo>
                  <a:pt x="10988" y="12644"/>
                  <a:pt x="11021" y="12652"/>
                  <a:pt x="11162" y="12650"/>
                </a:cubicBezTo>
              </a:path>
              <a:path w="4094" h="2630">
                <a:moveTo>
                  <a:pt x="9426" y="12725"/>
                </a:moveTo>
                <a:cubicBezTo>
                  <a:pt x="9426" y="12971"/>
                  <a:pt x="9423" y="13202"/>
                  <a:pt x="9376" y="13444"/>
                </a:cubicBezTo>
              </a:path>
              <a:path w="4094" h="2630">
                <a:moveTo>
                  <a:pt x="9947" y="12849"/>
                </a:moveTo>
                <a:cubicBezTo>
                  <a:pt x="9841" y="12920"/>
                  <a:pt x="9635" y="13171"/>
                  <a:pt x="9773" y="13320"/>
                </a:cubicBezTo>
                <a:cubicBezTo>
                  <a:pt x="9914" y="13472"/>
                  <a:pt x="10152" y="13216"/>
                  <a:pt x="10244" y="13146"/>
                </a:cubicBezTo>
                <a:cubicBezTo>
                  <a:pt x="10133" y="12933"/>
                  <a:pt x="10106" y="12952"/>
                  <a:pt x="9847" y="12898"/>
                </a:cubicBezTo>
              </a:path>
              <a:path w="4094" h="2630">
                <a:moveTo>
                  <a:pt x="10616" y="12849"/>
                </a:moveTo>
                <a:cubicBezTo>
                  <a:pt x="10421" y="12983"/>
                  <a:pt x="10382" y="13061"/>
                  <a:pt x="10393" y="13295"/>
                </a:cubicBezTo>
                <a:cubicBezTo>
                  <a:pt x="10486" y="13295"/>
                  <a:pt x="11116" y="13251"/>
                  <a:pt x="10939" y="12998"/>
                </a:cubicBezTo>
                <a:cubicBezTo>
                  <a:pt x="10881" y="12965"/>
                  <a:pt x="10823" y="12931"/>
                  <a:pt x="10765" y="12898"/>
                </a:cubicBezTo>
              </a:path>
              <a:path w="4094" h="2630">
                <a:moveTo>
                  <a:pt x="8731" y="12824"/>
                </a:moveTo>
                <a:cubicBezTo>
                  <a:pt x="8806" y="13030"/>
                  <a:pt x="8877" y="13348"/>
                  <a:pt x="9054" y="13494"/>
                </a:cubicBezTo>
                <a:cubicBezTo>
                  <a:pt x="9336" y="13728"/>
                  <a:pt x="9885" y="13720"/>
                  <a:pt x="10220" y="13717"/>
                </a:cubicBezTo>
                <a:cubicBezTo>
                  <a:pt x="10583" y="13714"/>
                  <a:pt x="11069" y="13613"/>
                  <a:pt x="11385" y="13419"/>
                </a:cubicBezTo>
                <a:cubicBezTo>
                  <a:pt x="11627" y="13270"/>
                  <a:pt x="11945" y="12869"/>
                  <a:pt x="12030" y="12601"/>
                </a:cubicBezTo>
                <a:cubicBezTo>
                  <a:pt x="12176" y="12140"/>
                  <a:pt x="11801" y="11685"/>
                  <a:pt x="11435" y="11460"/>
                </a:cubicBezTo>
                <a:cubicBezTo>
                  <a:pt x="10955" y="11164"/>
                  <a:pt x="10381" y="11036"/>
                  <a:pt x="9823" y="11112"/>
                </a:cubicBezTo>
                <a:cubicBezTo>
                  <a:pt x="9246" y="11191"/>
                  <a:pt x="8773" y="11475"/>
                  <a:pt x="8607" y="12055"/>
                </a:cubicBezTo>
                <a:cubicBezTo>
                  <a:pt x="8551" y="12250"/>
                  <a:pt x="8460" y="12803"/>
                  <a:pt x="8582" y="12998"/>
                </a:cubicBezTo>
                <a:cubicBezTo>
                  <a:pt x="8640" y="13056"/>
                  <a:pt x="8698" y="13113"/>
                  <a:pt x="8756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33680" y="4518000"/>
            <a:ext cx="36360" cy="19080"/>
          </a:xfrm>
          <a:custGeom>
            <a:avLst/>
            <a:gdLst/>
            <a:ahLst/>
            <a:rect l="l" t="t" r="r" b="b"/>
            <a:pathLst>
              <a:path w="100" h="51">
                <a:moveTo>
                  <a:pt x="4564" y="12551"/>
                </a:moveTo>
                <a:cubicBezTo>
                  <a:pt x="4564" y="12624"/>
                  <a:pt x="4586" y="12595"/>
                  <a:pt x="4638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85960" y="4330800"/>
            <a:ext cx="376200" cy="179280"/>
          </a:xfrm>
          <a:custGeom>
            <a:avLst/>
            <a:gdLst/>
            <a:ahLst/>
            <a:rect l="l" t="t" r="r" b="b"/>
            <a:pathLst>
              <a:path w="1043" h="497">
                <a:moveTo>
                  <a:pt x="5159" y="12030"/>
                </a:moveTo>
                <a:cubicBezTo>
                  <a:pt x="4972" y="12143"/>
                  <a:pt x="4952" y="12240"/>
                  <a:pt x="5011" y="12452"/>
                </a:cubicBezTo>
                <a:cubicBezTo>
                  <a:pt x="5202" y="12436"/>
                  <a:pt x="5492" y="12403"/>
                  <a:pt x="5333" y="12129"/>
                </a:cubicBezTo>
                <a:cubicBezTo>
                  <a:pt x="5284" y="12045"/>
                  <a:pt x="5161" y="12080"/>
                  <a:pt x="5085" y="12080"/>
                </a:cubicBezTo>
              </a:path>
              <a:path w="1043" h="497">
                <a:moveTo>
                  <a:pt x="5507" y="12030"/>
                </a:moveTo>
                <a:cubicBezTo>
                  <a:pt x="5665" y="12030"/>
                  <a:pt x="5820" y="12050"/>
                  <a:pt x="5978" y="12055"/>
                </a:cubicBezTo>
                <a:cubicBezTo>
                  <a:pt x="5986" y="12055"/>
                  <a:pt x="5995" y="12055"/>
                  <a:pt x="6003" y="12055"/>
                </a:cubicBezTo>
                <a:cubicBezTo>
                  <a:pt x="5965" y="12207"/>
                  <a:pt x="5834" y="12374"/>
                  <a:pt x="5755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write any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decim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frac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s a percent, just remember that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percent means per cent or per hundre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959200" y="21970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9200" y="21970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523880" y="1981080"/>
          <a:ext cx="4064040" cy="1973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419720" y="3276720"/>
          <a:ext cx="37620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276720"/>
                    <a:ext cx="3762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419720" y="4724280"/>
          <a:ext cx="404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724280"/>
                    <a:ext cx="404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3589200" y="2554200"/>
            <a:ext cx="1376640" cy="598680"/>
          </a:xfrm>
          <a:custGeom>
            <a:avLst/>
            <a:gdLst/>
            <a:ahLst/>
            <a:rect l="l" t="t" r="r" b="b"/>
            <a:pathLst>
              <a:path w="3821" h="1663">
                <a:moveTo>
                  <a:pt x="10468" y="7516"/>
                </a:moveTo>
                <a:cubicBezTo>
                  <a:pt x="10367" y="7516"/>
                  <a:pt x="10267" y="7505"/>
                  <a:pt x="10170" y="7541"/>
                </a:cubicBezTo>
                <a:cubicBezTo>
                  <a:pt x="10106" y="7565"/>
                  <a:pt x="10102" y="7687"/>
                  <a:pt x="10096" y="7739"/>
                </a:cubicBezTo>
                <a:cubicBezTo>
                  <a:pt x="10199" y="7669"/>
                  <a:pt x="10274" y="7691"/>
                  <a:pt x="10393" y="7714"/>
                </a:cubicBezTo>
                <a:cubicBezTo>
                  <a:pt x="10367" y="7894"/>
                  <a:pt x="10305" y="7871"/>
                  <a:pt x="10145" y="7888"/>
                </a:cubicBezTo>
              </a:path>
              <a:path w="3821" h="1663">
                <a:moveTo>
                  <a:pt x="10666" y="7466"/>
                </a:moveTo>
                <a:cubicBezTo>
                  <a:pt x="10785" y="7406"/>
                  <a:pt x="10820" y="7495"/>
                  <a:pt x="10840" y="7615"/>
                </a:cubicBezTo>
                <a:cubicBezTo>
                  <a:pt x="10840" y="7640"/>
                  <a:pt x="10840" y="7664"/>
                  <a:pt x="10840" y="7689"/>
                </a:cubicBezTo>
                <a:cubicBezTo>
                  <a:pt x="10726" y="7703"/>
                  <a:pt x="10653" y="7700"/>
                  <a:pt x="10542" y="7689"/>
                </a:cubicBezTo>
                <a:cubicBezTo>
                  <a:pt x="10677" y="7675"/>
                  <a:pt x="10732" y="7681"/>
                  <a:pt x="10864" y="7714"/>
                </a:cubicBezTo>
              </a:path>
              <a:path w="3821" h="1663">
                <a:moveTo>
                  <a:pt x="9971" y="8062"/>
                </a:moveTo>
                <a:cubicBezTo>
                  <a:pt x="10286" y="8007"/>
                  <a:pt x="10600" y="7942"/>
                  <a:pt x="10914" y="7888"/>
                </a:cubicBezTo>
                <a:cubicBezTo>
                  <a:pt x="10931" y="7888"/>
                  <a:pt x="10947" y="7888"/>
                  <a:pt x="10964" y="7888"/>
                </a:cubicBezTo>
              </a:path>
              <a:path w="3821" h="1663">
                <a:moveTo>
                  <a:pt x="10096" y="8359"/>
                </a:moveTo>
                <a:cubicBezTo>
                  <a:pt x="10120" y="8517"/>
                  <a:pt x="10112" y="8604"/>
                  <a:pt x="10071" y="8756"/>
                </a:cubicBezTo>
              </a:path>
              <a:path w="3821" h="1663">
                <a:moveTo>
                  <a:pt x="10418" y="8260"/>
                </a:moveTo>
                <a:cubicBezTo>
                  <a:pt x="10393" y="8397"/>
                  <a:pt x="10349" y="8492"/>
                  <a:pt x="10368" y="8632"/>
                </a:cubicBezTo>
                <a:cubicBezTo>
                  <a:pt x="10474" y="8575"/>
                  <a:pt x="10671" y="8437"/>
                  <a:pt x="10542" y="8285"/>
                </a:cubicBezTo>
                <a:cubicBezTo>
                  <a:pt x="10517" y="8277"/>
                  <a:pt x="10493" y="8268"/>
                  <a:pt x="10468" y="8260"/>
                </a:cubicBezTo>
              </a:path>
              <a:path w="3821" h="1663">
                <a:moveTo>
                  <a:pt x="10790" y="8161"/>
                </a:moveTo>
                <a:cubicBezTo>
                  <a:pt x="10761" y="8289"/>
                  <a:pt x="10714" y="8416"/>
                  <a:pt x="10765" y="8533"/>
                </a:cubicBezTo>
                <a:cubicBezTo>
                  <a:pt x="10858" y="8506"/>
                  <a:pt x="11205" y="8308"/>
                  <a:pt x="10988" y="8161"/>
                </a:cubicBezTo>
                <a:cubicBezTo>
                  <a:pt x="10939" y="8153"/>
                  <a:pt x="10889" y="8144"/>
                  <a:pt x="10840" y="8136"/>
                </a:cubicBezTo>
              </a:path>
              <a:path w="3821" h="1663">
                <a:moveTo>
                  <a:pt x="11261" y="7913"/>
                </a:moveTo>
                <a:cubicBezTo>
                  <a:pt x="11303" y="7913"/>
                  <a:pt x="11328" y="7913"/>
                  <a:pt x="11361" y="7913"/>
                </a:cubicBezTo>
              </a:path>
              <a:path w="3821" h="1663">
                <a:moveTo>
                  <a:pt x="11311" y="7739"/>
                </a:moveTo>
                <a:lnTo>
                  <a:pt x="11311" y="7739"/>
                </a:lnTo>
              </a:path>
              <a:path w="3821" h="1663">
                <a:moveTo>
                  <a:pt x="11336" y="8086"/>
                </a:moveTo>
                <a:lnTo>
                  <a:pt x="11336" y="8086"/>
                </a:lnTo>
              </a:path>
              <a:path w="3821" h="1663">
                <a:moveTo>
                  <a:pt x="11584" y="7541"/>
                </a:moveTo>
                <a:cubicBezTo>
                  <a:pt x="11584" y="7640"/>
                  <a:pt x="11572" y="7652"/>
                  <a:pt x="11633" y="7714"/>
                </a:cubicBezTo>
              </a:path>
              <a:path w="3821" h="1663">
                <a:moveTo>
                  <a:pt x="11633" y="7491"/>
                </a:moveTo>
                <a:cubicBezTo>
                  <a:pt x="11633" y="7641"/>
                  <a:pt x="11633" y="7691"/>
                  <a:pt x="11658" y="7789"/>
                </a:cubicBezTo>
              </a:path>
              <a:path w="3821" h="1663">
                <a:moveTo>
                  <a:pt x="11534" y="7962"/>
                </a:moveTo>
                <a:cubicBezTo>
                  <a:pt x="11646" y="7934"/>
                  <a:pt x="11748" y="7902"/>
                  <a:pt x="11857" y="7863"/>
                </a:cubicBezTo>
              </a:path>
              <a:path w="3821" h="1663">
                <a:moveTo>
                  <a:pt x="11633" y="8086"/>
                </a:moveTo>
                <a:cubicBezTo>
                  <a:pt x="11666" y="8195"/>
                  <a:pt x="11630" y="8175"/>
                  <a:pt x="11733" y="8186"/>
                </a:cubicBezTo>
              </a:path>
              <a:path w="3821" h="1663">
                <a:moveTo>
                  <a:pt x="11733" y="8111"/>
                </a:moveTo>
                <a:cubicBezTo>
                  <a:pt x="11733" y="8203"/>
                  <a:pt x="11731" y="8230"/>
                  <a:pt x="11757" y="8285"/>
                </a:cubicBezTo>
              </a:path>
              <a:path w="3821" h="1663">
                <a:moveTo>
                  <a:pt x="12179" y="7838"/>
                </a:moveTo>
                <a:cubicBezTo>
                  <a:pt x="12222" y="7838"/>
                  <a:pt x="12247" y="7832"/>
                  <a:pt x="12278" y="7813"/>
                </a:cubicBezTo>
              </a:path>
              <a:path w="3821" h="1663">
                <a:moveTo>
                  <a:pt x="12229" y="7962"/>
                </a:moveTo>
                <a:lnTo>
                  <a:pt x="12229" y="7962"/>
                </a:lnTo>
              </a:path>
              <a:path w="3821" h="1663">
                <a:moveTo>
                  <a:pt x="12576" y="7491"/>
                </a:moveTo>
                <a:cubicBezTo>
                  <a:pt x="12593" y="7594"/>
                  <a:pt x="12635" y="7686"/>
                  <a:pt x="12650" y="7789"/>
                </a:cubicBezTo>
              </a:path>
              <a:path w="3821" h="1663">
                <a:moveTo>
                  <a:pt x="12824" y="7441"/>
                </a:moveTo>
                <a:cubicBezTo>
                  <a:pt x="12850" y="7438"/>
                  <a:pt x="13034" y="7389"/>
                  <a:pt x="12998" y="7491"/>
                </a:cubicBezTo>
                <a:cubicBezTo>
                  <a:pt x="12944" y="7545"/>
                  <a:pt x="12922" y="7565"/>
                  <a:pt x="12874" y="7590"/>
                </a:cubicBezTo>
                <a:cubicBezTo>
                  <a:pt x="13009" y="7554"/>
                  <a:pt x="12987" y="7526"/>
                  <a:pt x="13072" y="7640"/>
                </a:cubicBezTo>
                <a:cubicBezTo>
                  <a:pt x="13011" y="7762"/>
                  <a:pt x="13029" y="7730"/>
                  <a:pt x="12874" y="7739"/>
                </a:cubicBezTo>
              </a:path>
              <a:path w="3821" h="1663">
                <a:moveTo>
                  <a:pt x="12601" y="7888"/>
                </a:moveTo>
                <a:cubicBezTo>
                  <a:pt x="12801" y="7880"/>
                  <a:pt x="12997" y="7849"/>
                  <a:pt x="13196" y="7838"/>
                </a:cubicBezTo>
              </a:path>
              <a:path w="3821" h="1663">
                <a:moveTo>
                  <a:pt x="12626" y="8111"/>
                </a:moveTo>
                <a:cubicBezTo>
                  <a:pt x="12820" y="8150"/>
                  <a:pt x="12861" y="8260"/>
                  <a:pt x="12650" y="8384"/>
                </a:cubicBezTo>
                <a:cubicBezTo>
                  <a:pt x="12566" y="8405"/>
                  <a:pt x="12547" y="8421"/>
                  <a:pt x="12502" y="8384"/>
                </a:cubicBezTo>
                <a:cubicBezTo>
                  <a:pt x="12545" y="8297"/>
                  <a:pt x="12648" y="8238"/>
                  <a:pt x="12750" y="8334"/>
                </a:cubicBezTo>
                <a:cubicBezTo>
                  <a:pt x="12758" y="8351"/>
                  <a:pt x="12766" y="8367"/>
                  <a:pt x="12774" y="8384"/>
                </a:cubicBezTo>
              </a:path>
              <a:path w="3821" h="1663">
                <a:moveTo>
                  <a:pt x="13047" y="8062"/>
                </a:moveTo>
                <a:cubicBezTo>
                  <a:pt x="12959" y="8099"/>
                  <a:pt x="12992" y="8072"/>
                  <a:pt x="12923" y="8161"/>
                </a:cubicBezTo>
                <a:cubicBezTo>
                  <a:pt x="13037" y="8167"/>
                  <a:pt x="13245" y="8151"/>
                  <a:pt x="13146" y="8334"/>
                </a:cubicBezTo>
                <a:cubicBezTo>
                  <a:pt x="13090" y="8391"/>
                  <a:pt x="13064" y="8408"/>
                  <a:pt x="12998" y="8384"/>
                </a:cubicBezTo>
              </a:path>
              <a:path w="3821" h="1663">
                <a:moveTo>
                  <a:pt x="13022" y="8086"/>
                </a:moveTo>
                <a:cubicBezTo>
                  <a:pt x="13106" y="8053"/>
                  <a:pt x="13165" y="8039"/>
                  <a:pt x="13246" y="8012"/>
                </a:cubicBezTo>
              </a:path>
              <a:path w="3821" h="1663">
                <a:moveTo>
                  <a:pt x="12080" y="8508"/>
                </a:moveTo>
                <a:cubicBezTo>
                  <a:pt x="12355" y="8639"/>
                  <a:pt x="12635" y="8744"/>
                  <a:pt x="12948" y="8706"/>
                </a:cubicBezTo>
                <a:cubicBezTo>
                  <a:pt x="13210" y="8674"/>
                  <a:pt x="13383" y="8560"/>
                  <a:pt x="13568" y="8384"/>
                </a:cubicBezTo>
                <a:cubicBezTo>
                  <a:pt x="13726" y="8233"/>
                  <a:pt x="13804" y="8061"/>
                  <a:pt x="13791" y="7838"/>
                </a:cubicBezTo>
                <a:cubicBezTo>
                  <a:pt x="13781" y="7666"/>
                  <a:pt x="13674" y="7454"/>
                  <a:pt x="13543" y="7342"/>
                </a:cubicBezTo>
                <a:cubicBezTo>
                  <a:pt x="13441" y="7255"/>
                  <a:pt x="13401" y="7205"/>
                  <a:pt x="13271" y="7169"/>
                </a:cubicBezTo>
                <a:cubicBezTo>
                  <a:pt x="13156" y="7137"/>
                  <a:pt x="12992" y="7086"/>
                  <a:pt x="12874" y="7094"/>
                </a:cubicBezTo>
                <a:cubicBezTo>
                  <a:pt x="12774" y="7100"/>
                  <a:pt x="12554" y="7153"/>
                  <a:pt x="12477" y="7218"/>
                </a:cubicBezTo>
                <a:cubicBezTo>
                  <a:pt x="12393" y="7288"/>
                  <a:pt x="12265" y="7437"/>
                  <a:pt x="12229" y="7541"/>
                </a:cubicBezTo>
                <a:cubicBezTo>
                  <a:pt x="12185" y="7668"/>
                  <a:pt x="12144" y="7852"/>
                  <a:pt x="12129" y="7987"/>
                </a:cubicBezTo>
                <a:cubicBezTo>
                  <a:pt x="12117" y="8093"/>
                  <a:pt x="12142" y="8188"/>
                  <a:pt x="12154" y="8285"/>
                </a:cubicBezTo>
                <a:cubicBezTo>
                  <a:pt x="12171" y="8421"/>
                  <a:pt x="12205" y="8571"/>
                  <a:pt x="12353" y="8632"/>
                </a:cubicBezTo>
                <a:cubicBezTo>
                  <a:pt x="12416" y="8658"/>
                  <a:pt x="12531" y="8652"/>
                  <a:pt x="12601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3505320"/>
            <a:ext cx="295560" cy="330120"/>
          </a:xfrm>
          <a:custGeom>
            <a:avLst/>
            <a:gdLst/>
            <a:ahLst/>
            <a:rect l="l" t="t" r="r" b="b"/>
            <a:pathLst>
              <a:path w="820" h="919">
                <a:moveTo>
                  <a:pt x="10666" y="15875"/>
                </a:moveTo>
                <a:cubicBezTo>
                  <a:pt x="10816" y="15795"/>
                  <a:pt x="10892" y="15789"/>
                  <a:pt x="11063" y="15776"/>
                </a:cubicBezTo>
                <a:cubicBezTo>
                  <a:pt x="11157" y="15991"/>
                  <a:pt x="11052" y="16133"/>
                  <a:pt x="10815" y="16247"/>
                </a:cubicBezTo>
                <a:cubicBezTo>
                  <a:pt x="10798" y="16247"/>
                  <a:pt x="10782" y="16247"/>
                  <a:pt x="10765" y="16247"/>
                </a:cubicBezTo>
                <a:cubicBezTo>
                  <a:pt x="10803" y="16079"/>
                  <a:pt x="10984" y="16045"/>
                  <a:pt x="11137" y="16148"/>
                </a:cubicBezTo>
                <a:cubicBezTo>
                  <a:pt x="11470" y="16373"/>
                  <a:pt x="11240" y="16639"/>
                  <a:pt x="10939" y="16694"/>
                </a:cubicBezTo>
                <a:cubicBezTo>
                  <a:pt x="10783" y="16722"/>
                  <a:pt x="10635" y="16692"/>
                  <a:pt x="10492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3352680"/>
            <a:ext cx="465120" cy="517680"/>
          </a:xfrm>
          <a:custGeom>
            <a:avLst/>
            <a:gdLst/>
            <a:ahLst/>
            <a:rect l="l" t="t" r="r" b="b"/>
            <a:pathLst>
              <a:path w="1291" h="1440">
                <a:moveTo>
                  <a:pt x="12601" y="15304"/>
                </a:moveTo>
                <a:cubicBezTo>
                  <a:pt x="12579" y="15445"/>
                  <a:pt x="12597" y="15605"/>
                  <a:pt x="12626" y="15751"/>
                </a:cubicBezTo>
              </a:path>
              <a:path w="1291" h="1440">
                <a:moveTo>
                  <a:pt x="11981" y="15999"/>
                </a:moveTo>
                <a:cubicBezTo>
                  <a:pt x="12314" y="15936"/>
                  <a:pt x="12635" y="15871"/>
                  <a:pt x="12973" y="15850"/>
                </a:cubicBezTo>
              </a:path>
              <a:path w="1291" h="1440">
                <a:moveTo>
                  <a:pt x="12080" y="16197"/>
                </a:moveTo>
                <a:cubicBezTo>
                  <a:pt x="12080" y="16358"/>
                  <a:pt x="12081" y="16536"/>
                  <a:pt x="12055" y="16694"/>
                </a:cubicBezTo>
                <a:cubicBezTo>
                  <a:pt x="12047" y="16710"/>
                  <a:pt x="12038" y="16727"/>
                  <a:pt x="12030" y="16743"/>
                </a:cubicBezTo>
              </a:path>
              <a:path w="1291" h="1440">
                <a:moveTo>
                  <a:pt x="12551" y="16123"/>
                </a:moveTo>
                <a:cubicBezTo>
                  <a:pt x="12461" y="16322"/>
                  <a:pt x="12386" y="16431"/>
                  <a:pt x="12551" y="16570"/>
                </a:cubicBezTo>
                <a:cubicBezTo>
                  <a:pt x="12695" y="16482"/>
                  <a:pt x="12884" y="16282"/>
                  <a:pt x="12601" y="16173"/>
                </a:cubicBezTo>
                <a:cubicBezTo>
                  <a:pt x="12493" y="16173"/>
                  <a:pt x="12468" y="16173"/>
                  <a:pt x="12402" y="16173"/>
                </a:cubicBezTo>
              </a:path>
              <a:path w="1291" h="1440">
                <a:moveTo>
                  <a:pt x="12973" y="16049"/>
                </a:moveTo>
                <a:cubicBezTo>
                  <a:pt x="12898" y="16198"/>
                  <a:pt x="12869" y="16284"/>
                  <a:pt x="12849" y="16446"/>
                </a:cubicBezTo>
                <a:cubicBezTo>
                  <a:pt x="12981" y="16501"/>
                  <a:pt x="13408" y="16529"/>
                  <a:pt x="13271" y="16222"/>
                </a:cubicBezTo>
                <a:cubicBezTo>
                  <a:pt x="13229" y="16189"/>
                  <a:pt x="13188" y="16156"/>
                  <a:pt x="13146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4191120"/>
            <a:ext cx="857520" cy="322200"/>
          </a:xfrm>
          <a:custGeom>
            <a:avLst/>
            <a:gdLst/>
            <a:ahLst/>
            <a:rect l="l" t="t" r="r" b="b"/>
            <a:pathLst>
              <a:path w="2382" h="894">
                <a:moveTo>
                  <a:pt x="6226" y="17611"/>
                </a:moveTo>
                <a:cubicBezTo>
                  <a:pt x="6364" y="17474"/>
                  <a:pt x="6546" y="17418"/>
                  <a:pt x="6648" y="17661"/>
                </a:cubicBezTo>
                <a:cubicBezTo>
                  <a:pt x="6786" y="17989"/>
                  <a:pt x="6442" y="18265"/>
                  <a:pt x="6152" y="18306"/>
                </a:cubicBezTo>
                <a:cubicBezTo>
                  <a:pt x="6036" y="18283"/>
                  <a:pt x="5997" y="18282"/>
                  <a:pt x="6003" y="18182"/>
                </a:cubicBezTo>
                <a:cubicBezTo>
                  <a:pt x="6153" y="18006"/>
                  <a:pt x="6387" y="17967"/>
                  <a:pt x="6623" y="18083"/>
                </a:cubicBezTo>
                <a:cubicBezTo>
                  <a:pt x="6702" y="18162"/>
                  <a:pt x="6722" y="18170"/>
                  <a:pt x="6747" y="18231"/>
                </a:cubicBezTo>
              </a:path>
              <a:path w="2382" h="894">
                <a:moveTo>
                  <a:pt x="7169" y="18008"/>
                </a:moveTo>
                <a:cubicBezTo>
                  <a:pt x="7114" y="17944"/>
                  <a:pt x="7093" y="17935"/>
                  <a:pt x="7045" y="18008"/>
                </a:cubicBezTo>
                <a:cubicBezTo>
                  <a:pt x="7106" y="18009"/>
                  <a:pt x="7102" y="17986"/>
                  <a:pt x="7119" y="17909"/>
                </a:cubicBezTo>
                <a:cubicBezTo>
                  <a:pt x="7067" y="17935"/>
                  <a:pt x="7068" y="17968"/>
                  <a:pt x="7045" y="18033"/>
                </a:cubicBezTo>
              </a:path>
              <a:path w="2382" h="894">
                <a:moveTo>
                  <a:pt x="7441" y="17562"/>
                </a:moveTo>
                <a:cubicBezTo>
                  <a:pt x="7559" y="17546"/>
                  <a:pt x="7671" y="17515"/>
                  <a:pt x="7789" y="17487"/>
                </a:cubicBezTo>
                <a:cubicBezTo>
                  <a:pt x="7857" y="17654"/>
                  <a:pt x="7759" y="17821"/>
                  <a:pt x="7714" y="18008"/>
                </a:cubicBezTo>
              </a:path>
              <a:path w="2382" h="894">
                <a:moveTo>
                  <a:pt x="7938" y="17587"/>
                </a:moveTo>
                <a:cubicBezTo>
                  <a:pt x="8032" y="17646"/>
                  <a:pt x="8300" y="17769"/>
                  <a:pt x="8111" y="17909"/>
                </a:cubicBezTo>
                <a:cubicBezTo>
                  <a:pt x="7982" y="17961"/>
                  <a:pt x="7935" y="17977"/>
                  <a:pt x="7838" y="17934"/>
                </a:cubicBezTo>
              </a:path>
              <a:path w="2382" h="894">
                <a:moveTo>
                  <a:pt x="7987" y="17487"/>
                </a:moveTo>
                <a:cubicBezTo>
                  <a:pt x="8125" y="17449"/>
                  <a:pt x="8241" y="17422"/>
                  <a:pt x="8384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4267080"/>
            <a:ext cx="260280" cy="276480"/>
          </a:xfrm>
          <a:custGeom>
            <a:avLst/>
            <a:gdLst/>
            <a:ahLst/>
            <a:rect l="l" t="t" r="r" b="b"/>
            <a:pathLst>
              <a:path w="721" h="770">
                <a:moveTo>
                  <a:pt x="10939" y="17487"/>
                </a:moveTo>
                <a:cubicBezTo>
                  <a:pt x="11079" y="17366"/>
                  <a:pt x="11351" y="17443"/>
                  <a:pt x="11410" y="17661"/>
                </a:cubicBezTo>
                <a:cubicBezTo>
                  <a:pt x="11520" y="18068"/>
                  <a:pt x="11082" y="18150"/>
                  <a:pt x="10815" y="18182"/>
                </a:cubicBezTo>
                <a:cubicBezTo>
                  <a:pt x="10779" y="17898"/>
                  <a:pt x="10880" y="17743"/>
                  <a:pt x="11212" y="17859"/>
                </a:cubicBezTo>
                <a:cubicBezTo>
                  <a:pt x="11353" y="17908"/>
                  <a:pt x="11437" y="17988"/>
                  <a:pt x="11485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4267080"/>
            <a:ext cx="411120" cy="447840"/>
          </a:xfrm>
          <a:custGeom>
            <a:avLst/>
            <a:gdLst/>
            <a:ahLst/>
            <a:rect l="l" t="t" r="r" b="b"/>
            <a:pathLst>
              <a:path w="1142" h="1241">
                <a:moveTo>
                  <a:pt x="12005" y="17264"/>
                </a:moveTo>
                <a:cubicBezTo>
                  <a:pt x="12122" y="17239"/>
                  <a:pt x="12232" y="17239"/>
                  <a:pt x="12353" y="17239"/>
                </a:cubicBezTo>
                <a:cubicBezTo>
                  <a:pt x="12335" y="17336"/>
                  <a:pt x="12229" y="17471"/>
                  <a:pt x="12229" y="17562"/>
                </a:cubicBezTo>
                <a:cubicBezTo>
                  <a:pt x="12237" y="17562"/>
                  <a:pt x="12246" y="17562"/>
                  <a:pt x="12254" y="17562"/>
                </a:cubicBezTo>
              </a:path>
              <a:path w="1142" h="1241">
                <a:moveTo>
                  <a:pt x="12551" y="17264"/>
                </a:moveTo>
                <a:cubicBezTo>
                  <a:pt x="12641" y="17331"/>
                  <a:pt x="12709" y="17372"/>
                  <a:pt x="12750" y="17462"/>
                </a:cubicBezTo>
                <a:cubicBezTo>
                  <a:pt x="12636" y="17542"/>
                  <a:pt x="12622" y="17527"/>
                  <a:pt x="12477" y="17512"/>
                </a:cubicBezTo>
              </a:path>
              <a:path w="1142" h="1241">
                <a:moveTo>
                  <a:pt x="12626" y="17214"/>
                </a:moveTo>
                <a:cubicBezTo>
                  <a:pt x="12772" y="17202"/>
                  <a:pt x="12856" y="17201"/>
                  <a:pt x="12998" y="17239"/>
                </a:cubicBezTo>
              </a:path>
              <a:path w="1142" h="1241">
                <a:moveTo>
                  <a:pt x="12229" y="17711"/>
                </a:moveTo>
                <a:cubicBezTo>
                  <a:pt x="12422" y="17696"/>
                  <a:pt x="12606" y="17686"/>
                  <a:pt x="12799" y="17686"/>
                </a:cubicBezTo>
              </a:path>
              <a:path w="1142" h="1241">
                <a:moveTo>
                  <a:pt x="12278" y="18008"/>
                </a:moveTo>
                <a:cubicBezTo>
                  <a:pt x="12210" y="18180"/>
                  <a:pt x="12117" y="18287"/>
                  <a:pt x="12005" y="18430"/>
                </a:cubicBezTo>
              </a:path>
              <a:path w="1142" h="1241">
                <a:moveTo>
                  <a:pt x="12551" y="17959"/>
                </a:moveTo>
                <a:cubicBezTo>
                  <a:pt x="12464" y="18082"/>
                  <a:pt x="12420" y="18163"/>
                  <a:pt x="12378" y="18306"/>
                </a:cubicBezTo>
                <a:cubicBezTo>
                  <a:pt x="12510" y="18317"/>
                  <a:pt x="12718" y="18278"/>
                  <a:pt x="12700" y="18083"/>
                </a:cubicBezTo>
                <a:cubicBezTo>
                  <a:pt x="12690" y="17978"/>
                  <a:pt x="12572" y="17990"/>
                  <a:pt x="12502" y="17983"/>
                </a:cubicBezTo>
              </a:path>
              <a:path w="1142" h="1241">
                <a:moveTo>
                  <a:pt x="12874" y="17934"/>
                </a:moveTo>
                <a:cubicBezTo>
                  <a:pt x="12786" y="18051"/>
                  <a:pt x="12750" y="18095"/>
                  <a:pt x="12725" y="18231"/>
                </a:cubicBezTo>
                <a:cubicBezTo>
                  <a:pt x="12817" y="18241"/>
                  <a:pt x="13234" y="18258"/>
                  <a:pt x="13146" y="18033"/>
                </a:cubicBezTo>
                <a:cubicBezTo>
                  <a:pt x="13113" y="18008"/>
                  <a:pt x="13080" y="17984"/>
                  <a:pt x="13047" y="179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4419720"/>
            <a:ext cx="152280" cy="11592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14238" y="17636"/>
                </a:moveTo>
                <a:cubicBezTo>
                  <a:pt x="14370" y="17593"/>
                  <a:pt x="14402" y="17581"/>
                  <a:pt x="14486" y="17562"/>
                </a:cubicBezTo>
              </a:path>
              <a:path w="423" h="323">
                <a:moveTo>
                  <a:pt x="14064" y="17884"/>
                </a:moveTo>
                <a:cubicBezTo>
                  <a:pt x="14175" y="17839"/>
                  <a:pt x="14310" y="17792"/>
                  <a:pt x="14412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4114800"/>
            <a:ext cx="652320" cy="509760"/>
          </a:xfrm>
          <a:custGeom>
            <a:avLst/>
            <a:gdLst/>
            <a:ahLst/>
            <a:rect l="l" t="t" r="r" b="b"/>
            <a:pathLst>
              <a:path w="1812" h="1415">
                <a:moveTo>
                  <a:pt x="15379" y="17462"/>
                </a:moveTo>
                <a:cubicBezTo>
                  <a:pt x="15336" y="17420"/>
                  <a:pt x="15351" y="17415"/>
                  <a:pt x="15304" y="17438"/>
                </a:cubicBezTo>
                <a:cubicBezTo>
                  <a:pt x="15365" y="17308"/>
                  <a:pt x="15679" y="17114"/>
                  <a:pt x="15652" y="17462"/>
                </a:cubicBezTo>
                <a:cubicBezTo>
                  <a:pt x="15635" y="17682"/>
                  <a:pt x="15375" y="18161"/>
                  <a:pt x="15081" y="18083"/>
                </a:cubicBezTo>
                <a:cubicBezTo>
                  <a:pt x="15048" y="18050"/>
                  <a:pt x="15015" y="18016"/>
                  <a:pt x="14982" y="17983"/>
                </a:cubicBezTo>
                <a:cubicBezTo>
                  <a:pt x="15099" y="17736"/>
                  <a:pt x="15327" y="17628"/>
                  <a:pt x="15577" y="17859"/>
                </a:cubicBezTo>
                <a:cubicBezTo>
                  <a:pt x="15759" y="18027"/>
                  <a:pt x="15674" y="18104"/>
                  <a:pt x="15553" y="18207"/>
                </a:cubicBezTo>
              </a:path>
              <a:path w="1812" h="1415">
                <a:moveTo>
                  <a:pt x="16098" y="17016"/>
                </a:moveTo>
                <a:cubicBezTo>
                  <a:pt x="16171" y="16995"/>
                  <a:pt x="16421" y="16880"/>
                  <a:pt x="16346" y="17066"/>
                </a:cubicBezTo>
                <a:cubicBezTo>
                  <a:pt x="16330" y="17106"/>
                  <a:pt x="16222" y="17263"/>
                  <a:pt x="16222" y="17190"/>
                </a:cubicBezTo>
                <a:cubicBezTo>
                  <a:pt x="16371" y="17180"/>
                  <a:pt x="16368" y="17176"/>
                  <a:pt x="16470" y="17289"/>
                </a:cubicBezTo>
                <a:cubicBezTo>
                  <a:pt x="16388" y="17442"/>
                  <a:pt x="16327" y="17430"/>
                  <a:pt x="16173" y="17363"/>
                </a:cubicBezTo>
              </a:path>
              <a:path w="1812" h="1415">
                <a:moveTo>
                  <a:pt x="15900" y="17686"/>
                </a:moveTo>
                <a:cubicBezTo>
                  <a:pt x="16184" y="17671"/>
                  <a:pt x="16467" y="17635"/>
                  <a:pt x="16743" y="17562"/>
                </a:cubicBezTo>
                <a:cubicBezTo>
                  <a:pt x="16760" y="17554"/>
                  <a:pt x="16776" y="17545"/>
                  <a:pt x="16793" y="17537"/>
                </a:cubicBezTo>
              </a:path>
              <a:path w="1812" h="1415">
                <a:moveTo>
                  <a:pt x="16321" y="17859"/>
                </a:moveTo>
                <a:cubicBezTo>
                  <a:pt x="16284" y="17926"/>
                  <a:pt x="16252" y="17987"/>
                  <a:pt x="16222" y="18058"/>
                </a:cubicBezTo>
                <a:cubicBezTo>
                  <a:pt x="16344" y="18058"/>
                  <a:pt x="16441" y="18068"/>
                  <a:pt x="16545" y="18008"/>
                </a:cubicBezTo>
              </a:path>
              <a:path w="1812" h="1415">
                <a:moveTo>
                  <a:pt x="16470" y="17760"/>
                </a:moveTo>
                <a:cubicBezTo>
                  <a:pt x="16438" y="17967"/>
                  <a:pt x="16406" y="18171"/>
                  <a:pt x="16396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3809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945" y="10294"/>
                </a:moveTo>
                <a:lnTo>
                  <a:pt x="6945" y="1029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600" spc="-1" strike="noStrike" u="sng">
                <a:solidFill>
                  <a:srgbClr val="808080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(Chapter 8 – Finding Equivalent Numb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PW pg. 72  #14 - 2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02080" y="4759200"/>
            <a:ext cx="1857600" cy="27000"/>
          </a:xfrm>
          <a:custGeom>
            <a:avLst/>
            <a:gdLst/>
            <a:ahLst/>
            <a:rect l="l" t="t" r="r" b="b"/>
            <a:pathLst>
              <a:path w="5160" h="75">
                <a:moveTo>
                  <a:pt x="12229" y="13271"/>
                </a:moveTo>
                <a:cubicBezTo>
                  <a:pt x="12304" y="13267"/>
                  <a:pt x="12384" y="13251"/>
                  <a:pt x="12452" y="13246"/>
                </a:cubicBezTo>
                <a:cubicBezTo>
                  <a:pt x="12603" y="13234"/>
                  <a:pt x="12806" y="13213"/>
                  <a:pt x="12948" y="13221"/>
                </a:cubicBezTo>
                <a:cubicBezTo>
                  <a:pt x="13025" y="13225"/>
                  <a:pt x="13090" y="13244"/>
                  <a:pt x="13171" y="13246"/>
                </a:cubicBezTo>
                <a:cubicBezTo>
                  <a:pt x="13585" y="13255"/>
                  <a:pt x="14003" y="13235"/>
                  <a:pt x="14412" y="13271"/>
                </a:cubicBezTo>
                <a:cubicBezTo>
                  <a:pt x="14495" y="13278"/>
                  <a:pt x="14580" y="13288"/>
                  <a:pt x="14660" y="13295"/>
                </a:cubicBezTo>
                <a:cubicBezTo>
                  <a:pt x="15430" y="13361"/>
                  <a:pt x="16434" y="13405"/>
                  <a:pt x="17190" y="13271"/>
                </a:cubicBezTo>
                <a:cubicBezTo>
                  <a:pt x="17261" y="13258"/>
                  <a:pt x="17329" y="13274"/>
                  <a:pt x="17388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0-19T17:47:48Z</dcterms:modified>
  <cp:revision>48</cp:revision>
  <dc:subject/>
  <dc:title>Unit 1 – Variables and Equations </dc:title>
</cp:coreProperties>
</file>